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move the slide</a:t>
            </a:r>
            <a:endParaRPr b="1" lang="en-US" sz="4000" spc="-1" strike="noStrike">
              <a:solidFill>
                <a:srgbClr val="000066"/>
              </a:solidFill>
              <a:latin typeface="Palatino Linotype"/>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B67D-4B06-45A8-8E7F-3086B9D4EC43}"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4BE1-092C-4C09-B1B5-75CAA0794AC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3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Palatino Linotyp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3D87-2BB1-4F06-8DF3-43E0EE18D2E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D9BA-F2CE-4AF9-BCC7-88362A6D37F9}"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EF15-8114-40DD-9ABE-32C390FDA95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444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a:t>
            </a:r>
            <a:r>
              <a:rPr b="0" lang="sr-CS" sz="1200" spc="-1" strike="noStrike">
                <a:solidFill>
                  <a:srgbClr val="000000"/>
                </a:solidFill>
                <a:latin typeface="Palatino Linotype"/>
              </a:rPr>
              <a:t> грађ</a:t>
            </a:r>
            <a:r>
              <a:rPr b="0" lang="hr-HR" sz="1200" spc="-1" strike="noStrike">
                <a:solidFill>
                  <a:srgbClr val="000000"/>
                </a:solidFill>
                <a:latin typeface="Palatino Linotype"/>
              </a:rPr>
              <a:t>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B2D1-3ECB-448B-9980-3DC8C32DFB6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444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BADA-8A73-4633-BD18-D420C5A436C1}"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73BB-9B11-4D0F-A1E4-E22FFF12E59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444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AFA9-B6C5-4BB1-A922-3D3E558D9AE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444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9A96-628B-4381-BEE6-AEBA19AB18A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3FFD-F579-4AFC-9EE7-03AA4E6EBE0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6F11-5B17-46B9-83EF-C43639090111}"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444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943C-5132-422F-A185-4D96C02584F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444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16E6-0751-4DAC-9DEF-F4BF68877D8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444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F549-ACF8-4F27-AF51-53F7B34C75FE}"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444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FAB7-A3B2-4FBD-B582-E3A5F52A521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444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CF60-84D5-48E3-B503-9F846DBDB15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444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363C-0E7B-4DBE-A421-A469965EC17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444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E9AA-CBDD-4A12-A87A-820D15BECBE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C5E1-ACC0-443A-8F8C-F129FB09E06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2BE0-424B-4D5B-B9A5-D3964C7A72E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385E-EE35-49D3-B94D-31ED9377193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444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8FCC-D8C4-4AC1-9E34-7930FC00236E}"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DFF4-90BC-48BA-8559-72FB204FAFC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A21A-53FB-488D-9E0C-901BB613152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621F-ADBC-484E-9943-F3648078A0F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3CB3-F00A-4A92-8876-4C56E1837313}"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C7F2-ED58-4355-80A3-AAB05934AD3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00E1-AA14-427B-91A9-44B62A3FE9F1}"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71CA-4C1E-4453-8B0A-B4D5D82D7E4C}"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D66C-1232-4F01-BE63-AFBD5E21898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444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E34F-F677-4CEA-95BC-BD05EDBF970E}"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B316-225D-4B17-8CEF-2F1696D2A77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CDFE-277D-4B52-9CCA-520C33BD946D}"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D669-0954-488B-89C3-B14BD49BFD0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967F-24EF-461B-96F0-17B12942565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444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1211-BF14-4BA8-82B3-46F3A1716B4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444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13B8-9CEF-44B7-B8F9-3F98E6908380}"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444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8296-7186-47D9-8CE5-84B5657EEEC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08C9-5BAA-4269-9F52-1ADE13718E6C}"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0C46-C59A-4AA1-B28D-57AABFD3F126}"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D1CA8-9A0A-4623-9418-5C24C97A4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AACC8-B9F2-41AF-A3E1-C4B9B0398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948BE-24F7-414D-941C-C88196985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031D3-C76C-437B-AF63-17A3B7E13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9D566-1906-4DEB-ABA4-FA0DEE85E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B7BB7-A7CA-49C0-B9C6-117163E93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7AE2-5B58-4304-992D-157A71096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90AA4-F751-4B8B-B5DE-C9EABD246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EA9B8-4B88-4CE5-B797-BBB44A090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5357-CC6A-4A67-8690-B4A7F53F0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9C4C-8335-4501-8364-8919F571A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050B8-DF53-4EEF-81EE-1390F3389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edit the title text format</a:t>
            </a:r>
            <a:endParaRPr b="1" lang="en-US" sz="4000" spc="-1" strike="noStrike">
              <a:solidFill>
                <a:srgbClr val="000066"/>
              </a:solidFill>
              <a:latin typeface="Palatino Linotype"/>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AD77-99DE-4913-A7EF-D4ABA166FC7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2"/>
          <p:cNvSpPr/>
          <p:nvPr/>
        </p:nvSpPr>
        <p:spPr>
          <a:xfrm>
            <a:off x="0" y="6424560"/>
            <a:ext cx="38098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66D8-5C32-49F6-BA5B-EEDBEFE892B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0" y="2053800"/>
            <a:ext cx="91440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66"/>
                </a:solidFill>
                <a:latin typeface="Palatino Linotype"/>
              </a:rPr>
              <a:t>АКУТНЕ ДЕНТОГЕНЕ ИНФЕКЦИЈЕ</a:t>
            </a:r>
            <a:r>
              <a:rPr b="1" lang="en-US" sz="4000" spc="-1" strike="noStrike">
                <a:solidFill>
                  <a:srgbClr val="000066"/>
                </a:solidFill>
                <a:latin typeface="Palatino Linotype"/>
              </a:rPr>
              <a:t>    </a:t>
            </a:r>
            <a:endParaRPr b="1" lang="en-US" sz="4000" spc="-1" strike="noStrike">
              <a:solidFill>
                <a:srgbClr val="000066"/>
              </a:solidFill>
              <a:latin typeface="Palatino Linotype"/>
            </a:endParaRPr>
          </a:p>
        </p:txBody>
      </p:sp>
      <p:sp>
        <p:nvSpPr>
          <p:cNvPr id="55" name="PlaceHolder 2"/>
          <p:cNvSpPr>
            <a:spLocks noGrp="1"/>
          </p:cNvSpPr>
          <p:nvPr>
            <p:ph type="subTitle"/>
          </p:nvPr>
        </p:nvSpPr>
        <p:spPr>
          <a:xfrm>
            <a:off x="501120" y="4060440"/>
            <a:ext cx="8642520" cy="1788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Орална хирург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a:t>
            </a:r>
            <a:r>
              <a:rPr b="0" lang="en-US" sz="1400" spc="-1" strike="noStrike">
                <a:solidFill>
                  <a:srgbClr val="000000"/>
                </a:solidFill>
                <a:latin typeface="Palatino Linotype"/>
              </a:rPr>
              <a:t>6</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16 – 18</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en-US" sz="1400" spc="-1" strike="noStrike">
                <a:solidFill>
                  <a:srgbClr val="000000"/>
                </a:solidFill>
                <a:latin typeface="Palatino Linotype"/>
              </a:rPr>
              <a:t>	</a:t>
            </a:r>
            <a:r>
              <a:rPr b="1" lang="sr-CS" sz="1400" spc="-1" strike="noStrike">
                <a:solidFill>
                  <a:srgbClr val="000000"/>
                </a:solidFill>
                <a:latin typeface="Palatino Linotype"/>
              </a:rPr>
              <a:t>Појам дентогене инфекције, клиничка слика и дијагноза дентогених                                            </a:t>
            </a:r>
            <a:r>
              <a:rPr b="1" lang="sr-CS" sz="1400" spc="-1" strike="noStrike">
                <a:solidFill>
                  <a:srgbClr val="000000"/>
                </a:solidFill>
                <a:latin typeface="Palatino Linotype"/>
              </a:rPr>
              <a:t>	</a:t>
            </a:r>
            <a:r>
              <a:rPr b="1" lang="sr-CS" sz="1400" spc="-1" strike="noStrike">
                <a:solidFill>
                  <a:srgbClr val="000000"/>
                </a:solidFill>
                <a:latin typeface="Palatino Linotype"/>
              </a:rPr>
              <a:t>	</a:t>
            </a:r>
            <a:r>
              <a:rPr b="1" lang="sr-CS" sz="1400" spc="-1" strike="noStrike">
                <a:solidFill>
                  <a:srgbClr val="000000"/>
                </a:solidFill>
                <a:latin typeface="Palatino Linotype"/>
              </a:rPr>
              <a:t>	</a:t>
            </a:r>
            <a:r>
              <a:rPr b="1" lang="sr-CS" sz="1400" spc="-1" strike="noStrike">
                <a:solidFill>
                  <a:srgbClr val="000000"/>
                </a:solidFill>
                <a:latin typeface="Palatino Linotype"/>
              </a:rPr>
              <a:t>инфекција,компликације дентогених инфекц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                  </a:t>
            </a:r>
            <a:r>
              <a:rPr b="0" lang="fr-FR" sz="1400" spc="-1" strike="noStrike">
                <a:solidFill>
                  <a:srgbClr val="000000"/>
                </a:solidFill>
                <a:latin typeface="Palatino Linotype"/>
              </a:rPr>
              <a:t>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Мирослав Васовић</a:t>
            </a:r>
            <a:endParaRPr b="0" lang="en-US" sz="1400" spc="-1" strike="noStrike">
              <a:solidFill>
                <a:srgbClr val="000000"/>
              </a:solidFill>
              <a:latin typeface="Palatino Linotype"/>
            </a:endParaRPr>
          </a:p>
        </p:txBody>
      </p:sp>
      <p:sp>
        <p:nvSpPr>
          <p:cNvPr id="56" name="Line 4"/>
          <p:cNvSpPr/>
          <p:nvPr/>
        </p:nvSpPr>
        <p:spPr>
          <a:xfrm>
            <a:off x="936720" y="3838680"/>
            <a:ext cx="478296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574560" y="6180120"/>
            <a:ext cx="78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1</a:t>
            </a:r>
            <a:r>
              <a:rPr b="0" lang="sr-Latn-RS" sz="1000" spc="-1" strike="noStrike">
                <a:solidFill>
                  <a:srgbClr val="000000"/>
                </a:solidFill>
                <a:latin typeface="Palatino Linotype"/>
              </a:rPr>
              <a:t>9</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1"/>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0E25-2C59-49CC-96A0-DF0BB122C22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10" name="TextBox 6"/>
          <p:cNvSpPr/>
          <p:nvPr/>
        </p:nvSpPr>
        <p:spPr>
          <a:xfrm>
            <a:off x="493560" y="1768320"/>
            <a:ext cx="814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Palatino Linotype"/>
              </a:rPr>
              <a:t>Положај и морфологија коренова</a:t>
            </a:r>
            <a:r>
              <a:rPr b="0" lang="sr-CS" sz="2000" spc="-1" strike="noStrike">
                <a:solidFill>
                  <a:srgbClr val="000000"/>
                </a:solidFill>
                <a:latin typeface="Palatino Linotype"/>
              </a:rPr>
              <a:t>, такође одређују правац ширења, односно локализацију инфекције.</a:t>
            </a:r>
            <a:endParaRPr b="0" lang="en-US" sz="2000" spc="-1" strike="noStrike">
              <a:solidFill>
                <a:srgbClr val="000000"/>
              </a:solidFill>
              <a:latin typeface="Arial"/>
            </a:endParaRPr>
          </a:p>
        </p:txBody>
      </p:sp>
      <p:pic>
        <p:nvPicPr>
          <p:cNvPr id="111" name="Picture 7" descr="C:\Users\Zoran\Downloads\oralna hirurgija\slike\fgfffgfgfgf.jpg"/>
          <p:cNvPicPr/>
          <p:nvPr/>
        </p:nvPicPr>
        <p:blipFill>
          <a:blip r:embed="rId1"/>
          <a:srcRect l="2327" t="0" r="0" b="4501"/>
          <a:stretch/>
        </p:blipFill>
        <p:spPr>
          <a:xfrm>
            <a:off x="2971800" y="2670120"/>
            <a:ext cx="3330720" cy="312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1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1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B1A2-FD96-44D4-9A39-5F20C65EF3C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16" name="TextBox 6"/>
          <p:cNvSpPr/>
          <p:nvPr/>
        </p:nvSpPr>
        <p:spPr>
          <a:xfrm>
            <a:off x="457200" y="1781280"/>
            <a:ext cx="8121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Palatino Linotype"/>
              </a:rPr>
              <a:t>Крвни и лимфни судови </a:t>
            </a:r>
            <a:r>
              <a:rPr b="0" lang="sr-CS" sz="2000" spc="-1" strike="noStrike">
                <a:solidFill>
                  <a:srgbClr val="000000"/>
                </a:solidFill>
                <a:latin typeface="Palatino Linotype"/>
              </a:rPr>
              <a:t>су углавном одговорни за ширење инфекција у удаљене пределе главе и вра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ји неколико праваца којима се инфекција пропагира у околину и удаљене регије.</a:t>
            </a:r>
            <a:endParaRPr b="0" lang="en-US" sz="2000" spc="-1" strike="noStrike">
              <a:solidFill>
                <a:srgbClr val="000000"/>
              </a:solidFill>
              <a:latin typeface="Arial"/>
            </a:endParaRPr>
          </a:p>
        </p:txBody>
      </p:sp>
      <p:pic>
        <p:nvPicPr>
          <p:cNvPr id="117" name="Picture 7" descr="C:\Users\Zoran\Downloads\oralna hirurgija\slike\ve.bmp"/>
          <p:cNvPicPr/>
          <p:nvPr/>
        </p:nvPicPr>
        <p:blipFill>
          <a:blip r:embed="rId1"/>
          <a:stretch/>
        </p:blipFill>
        <p:spPr>
          <a:xfrm>
            <a:off x="1189080" y="3270240"/>
            <a:ext cx="2541600" cy="3024360"/>
          </a:xfrm>
          <a:prstGeom prst="rect">
            <a:avLst/>
          </a:prstGeom>
          <a:ln w="0">
            <a:noFill/>
          </a:ln>
        </p:spPr>
      </p:pic>
      <p:pic>
        <p:nvPicPr>
          <p:cNvPr id="118" name="Picture 8" descr="C:\Users\Zoran\Downloads\oralna hirurgija\slike\v.bmp"/>
          <p:cNvPicPr/>
          <p:nvPr/>
        </p:nvPicPr>
        <p:blipFill>
          <a:blip r:embed="rId2"/>
          <a:stretch/>
        </p:blipFill>
        <p:spPr>
          <a:xfrm>
            <a:off x="4051440" y="3290760"/>
            <a:ext cx="2912760" cy="295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20"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6BC4-16DC-48C1-8DB3-2076A346247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3" name="TextBox 6"/>
          <p:cNvSpPr/>
          <p:nvPr/>
        </p:nvSpPr>
        <p:spPr>
          <a:xfrm>
            <a:off x="469800" y="1359000"/>
            <a:ext cx="81565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ff0000"/>
                </a:solidFill>
                <a:uFillTx/>
                <a:latin typeface="Palatino Linotype"/>
              </a:rPr>
              <a:t>ТИПОВИ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утне дентогене инфекције могу да се јаве у два обл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псцес и Флегмо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ff0000"/>
                </a:solidFill>
                <a:latin typeface="Palatino Linotype"/>
              </a:rPr>
              <a:t>Апсцес</a:t>
            </a:r>
            <a:r>
              <a:rPr b="0" lang="sr-CS" sz="2000" spc="-1" strike="noStrike">
                <a:solidFill>
                  <a:srgbClr val="000000"/>
                </a:solidFill>
                <a:latin typeface="Palatino Linotype"/>
              </a:rPr>
              <a:t> је честа форма дентогене инфекције. Представља одраз повољне одбрамбене реакције организма који настоји да локализује инфективно жариш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о је добро ограничено локално запаљење које од околног здравог ткива демаркира зона богата разноврсним ћелијским и хуморалним факторима одбране организм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7" descr="C:\Users\Zoran\Downloads\oralna hirurgija\slike\loadBinary.gif"/>
          <p:cNvPicPr/>
          <p:nvPr/>
        </p:nvPicPr>
        <p:blipFill>
          <a:blip r:embed="rId1"/>
          <a:srcRect l="40815" t="-1058" r="147" b="19552"/>
          <a:stretch/>
        </p:blipFill>
        <p:spPr>
          <a:xfrm>
            <a:off x="7351560" y="4595760"/>
            <a:ext cx="1625760" cy="1871640"/>
          </a:xfrm>
          <a:prstGeom prst="rect">
            <a:avLst/>
          </a:prstGeom>
          <a:ln w="0">
            <a:noFill/>
          </a:ln>
        </p:spPr>
      </p:pic>
      <p:pic>
        <p:nvPicPr>
          <p:cNvPr id="125" name="Picture 8" descr="C:\Users\Zoran\Downloads\oralna hirurgija\slike\download.jpg"/>
          <p:cNvPicPr/>
          <p:nvPr/>
        </p:nvPicPr>
        <p:blipFill>
          <a:blip r:embed="rId2"/>
          <a:srcRect l="36657" t="2563" r="7374" b="16114"/>
          <a:stretch/>
        </p:blipFill>
        <p:spPr>
          <a:xfrm>
            <a:off x="5943600" y="4813200"/>
            <a:ext cx="1311120" cy="158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27" name="Date Placeholder 3"/>
          <p:cNvSpPr/>
          <p:nvPr/>
        </p:nvSpPr>
        <p:spPr>
          <a:xfrm>
            <a:off x="0" y="6424560"/>
            <a:ext cx="38512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A631-15D3-47BC-B2BA-17AA5FA58EC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0" name="TextBox 6"/>
          <p:cNvSpPr/>
          <p:nvPr/>
        </p:nvSpPr>
        <p:spPr>
          <a:xfrm>
            <a:off x="444600" y="1468440"/>
            <a:ext cx="82296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ff0000"/>
                </a:solidFill>
                <a:latin typeface="Palatino Linotype"/>
              </a:rPr>
              <a:t>Флегмона</a:t>
            </a:r>
            <a:r>
              <a:rPr b="0" i="1" lang="sr-CS" sz="2000" spc="-1" strike="noStrike">
                <a:solidFill>
                  <a:srgbClr val="000000"/>
                </a:solidFill>
                <a:latin typeface="Palatino Linotype"/>
              </a:rPr>
              <a:t>  </a:t>
            </a:r>
            <a:r>
              <a:rPr b="0" lang="sr-CS" sz="2000" spc="-1" strike="noStrike">
                <a:solidFill>
                  <a:srgbClr val="000000"/>
                </a:solidFill>
                <a:latin typeface="Palatino Linotype"/>
              </a:rPr>
              <a:t>настаје када је локални одговор организма слаб и ширење инфекције се несметано одвија у везивно и мишићно ткиво, </a:t>
            </a:r>
            <a:r>
              <a:rPr b="0" lang="sr-CS" sz="2000" spc="-1" strike="noStrike" u="sng">
                <a:solidFill>
                  <a:srgbClr val="000000"/>
                </a:solidFill>
                <a:uFillTx/>
                <a:latin typeface="Palatino Linotype"/>
              </a:rPr>
              <a:t>дифузно га прожимајући</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а слика флегмоне је тежа, са брзим настанком и ширењем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ред локалних, флегмону карактерише и појава бурних општих симптома: повишена телесна температура, интоксикација и лоше опште стање организ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Граница између здравог и инфламираног ткива је нејасна, а оток у оболелој регији је </a:t>
            </a:r>
            <a:r>
              <a:rPr b="0" lang="sr-CS" sz="2000" spc="-1" strike="noStrike" u="sng">
                <a:solidFill>
                  <a:srgbClr val="000000"/>
                </a:solidFill>
                <a:uFillTx/>
                <a:latin typeface="Palatino Linotype"/>
              </a:rPr>
              <a:t>чврст и дифузан</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жа изнад отока је црвена, сјајна и затегнута, топлија од околи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чешће се флегмона развија код имунолошки компромитованих болесника: рековалесценција, слаба исхрана, исцрпљеност, физички напор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5160" y="122040"/>
            <a:ext cx="841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32"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12E5-F352-4131-90DB-4209CC65074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5" name="TextBox 6"/>
          <p:cNvSpPr/>
          <p:nvPr/>
        </p:nvSpPr>
        <p:spPr>
          <a:xfrm>
            <a:off x="444600" y="1708200"/>
            <a:ext cx="8145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ФАЗЕ РАЗВОЈА ДЕНТОГЕНИХ АПЦЕ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Palatino Linotype"/>
              </a:rPr>
              <a:t>ИНТРАОСЕАЛНА ФА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C:\Users\Zoran\Downloads\oralna hirurgija\slike\images 55.jpg"/>
          <p:cNvPicPr/>
          <p:nvPr/>
        </p:nvPicPr>
        <p:blipFill>
          <a:blip r:embed="rId1"/>
          <a:srcRect l="36054" t="0" r="0" b="518"/>
          <a:stretch/>
        </p:blipFill>
        <p:spPr>
          <a:xfrm>
            <a:off x="625320" y="3033720"/>
            <a:ext cx="2829240" cy="1863720"/>
          </a:xfrm>
          <a:prstGeom prst="rect">
            <a:avLst/>
          </a:prstGeom>
          <a:ln w="0">
            <a:noFill/>
          </a:ln>
        </p:spPr>
      </p:pic>
      <p:pic>
        <p:nvPicPr>
          <p:cNvPr id="137" name="Picture 8" descr="C:\Users\Zoran\Downloads\oralna hirurgija\slike\imagesCA3O6LEJ.jpg"/>
          <p:cNvPicPr/>
          <p:nvPr/>
        </p:nvPicPr>
        <p:blipFill>
          <a:blip r:embed="rId2"/>
          <a:srcRect l="2294" t="9087" r="61700" b="16914"/>
          <a:stretch/>
        </p:blipFill>
        <p:spPr>
          <a:xfrm>
            <a:off x="5319720" y="2995560"/>
            <a:ext cx="1986120" cy="1979640"/>
          </a:xfrm>
          <a:prstGeom prst="rect">
            <a:avLst/>
          </a:prstGeom>
          <a:ln w="0">
            <a:noFill/>
          </a:ln>
        </p:spPr>
      </p:pic>
      <p:sp>
        <p:nvSpPr>
          <p:cNvPr id="138" name="TextBox 9"/>
          <p:cNvSpPr/>
          <p:nvPr/>
        </p:nvSpPr>
        <p:spPr>
          <a:xfrm>
            <a:off x="601560" y="5389560"/>
            <a:ext cx="798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ше се интезивним боловима, палпаторном и перкуторном  осетљивошћу зуба узрочни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40" name="Date Placeholder 3"/>
          <p:cNvSpPr/>
          <p:nvPr/>
        </p:nvSpPr>
        <p:spPr>
          <a:xfrm>
            <a:off x="0" y="6424560"/>
            <a:ext cx="3754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5DCD-1EFB-4A80-901B-44CBADD500D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3" name="TextBox 6"/>
          <p:cNvSpPr/>
          <p:nvPr/>
        </p:nvSpPr>
        <p:spPr>
          <a:xfrm>
            <a:off x="457200" y="185256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Palatino Linotype"/>
              </a:rPr>
              <a:t>СУБПЕРИОСТАЛНА ФА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7" descr="C:\Users\Zoran\Downloads\oralna hirurgija\slike\download (17).jpg"/>
          <p:cNvPicPr/>
          <p:nvPr/>
        </p:nvPicPr>
        <p:blipFill>
          <a:blip r:embed="rId1"/>
          <a:stretch/>
        </p:blipFill>
        <p:spPr>
          <a:xfrm>
            <a:off x="5956200" y="1785960"/>
            <a:ext cx="2979720" cy="2484360"/>
          </a:xfrm>
          <a:prstGeom prst="rect">
            <a:avLst/>
          </a:prstGeom>
          <a:ln w="0">
            <a:noFill/>
          </a:ln>
        </p:spPr>
      </p:pic>
      <p:sp>
        <p:nvSpPr>
          <p:cNvPr id="145" name="TextBox 8"/>
          <p:cNvSpPr/>
          <p:nvPr/>
        </p:nvSpPr>
        <p:spPr>
          <a:xfrm>
            <a:off x="522360" y="2536920"/>
            <a:ext cx="52689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Болови се појачавају, што је последица ригидности и богате инервације перио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је слабо изражен, али палпаторно веома болан. Слузокожа у пределу зуба узрочника је црвена, чврста и напета.</a:t>
            </a:r>
            <a:endParaRPr b="0" lang="en-US" sz="2000" spc="-1" strike="noStrike">
              <a:solidFill>
                <a:srgbClr val="000000"/>
              </a:solidFill>
              <a:latin typeface="Arial"/>
            </a:endParaRPr>
          </a:p>
        </p:txBody>
      </p:sp>
      <p:sp>
        <p:nvSpPr>
          <p:cNvPr id="146" name="TextBox 9"/>
          <p:cNvSpPr/>
          <p:nvPr/>
        </p:nvSpPr>
        <p:spPr>
          <a:xfrm>
            <a:off x="579600" y="4624560"/>
            <a:ext cx="806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бе пре</a:t>
            </a:r>
            <a:r>
              <a:rPr b="0" lang="en-US" sz="2000" spc="-1" strike="noStrike">
                <a:solidFill>
                  <a:srgbClr val="000000"/>
                </a:solidFill>
                <a:latin typeface="Palatino Linotype"/>
              </a:rPr>
              <a:t>т</a:t>
            </a:r>
            <a:r>
              <a:rPr b="0" lang="sr-CS" sz="2000" spc="-1" strike="noStrike">
                <a:solidFill>
                  <a:srgbClr val="000000"/>
                </a:solidFill>
                <a:latin typeface="Palatino Linotype"/>
              </a:rPr>
              <a:t>ходне фазе, терапија апсцеса се заснива на вађењу зуба или дренажи кроз канал корена, уз евентуалну примену антибиоти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AE50-8C56-48EC-88EF-4586B9BA39C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51" name="TextBox 6"/>
          <p:cNvSpPr/>
          <p:nvPr/>
        </p:nvSpPr>
        <p:spPr>
          <a:xfrm>
            <a:off x="480960" y="1647720"/>
            <a:ext cx="8169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Palatino Linotype"/>
              </a:rPr>
              <a:t>СУБМУКОЗНА / СУБКУТАНА ФА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7" descr="C:\Users\Zoran\Downloads\oralna hirurgija\slike\12223.jpg"/>
          <p:cNvPicPr/>
          <p:nvPr/>
        </p:nvPicPr>
        <p:blipFill>
          <a:blip r:embed="rId1"/>
          <a:srcRect l="584" t="0" r="0" b="4619"/>
          <a:stretch/>
        </p:blipFill>
        <p:spPr>
          <a:xfrm>
            <a:off x="1155600" y="2340000"/>
            <a:ext cx="2508480" cy="2232000"/>
          </a:xfrm>
          <a:prstGeom prst="rect">
            <a:avLst/>
          </a:prstGeom>
          <a:ln w="0">
            <a:noFill/>
          </a:ln>
        </p:spPr>
      </p:pic>
      <p:pic>
        <p:nvPicPr>
          <p:cNvPr id="153" name="Picture 8" descr="C:\Users\Zoran\Downloads\oralna hirurgija\slike\imagesggg.jpg"/>
          <p:cNvPicPr/>
          <p:nvPr/>
        </p:nvPicPr>
        <p:blipFill>
          <a:blip r:embed="rId2"/>
          <a:stretch/>
        </p:blipFill>
        <p:spPr>
          <a:xfrm>
            <a:off x="5408640" y="2306520"/>
            <a:ext cx="2444760" cy="2411640"/>
          </a:xfrm>
          <a:prstGeom prst="rect">
            <a:avLst/>
          </a:prstGeom>
          <a:ln w="0">
            <a:noFill/>
          </a:ln>
        </p:spPr>
      </p:pic>
      <p:sp>
        <p:nvSpPr>
          <p:cNvPr id="154" name="TextBox 11"/>
          <p:cNvSpPr/>
          <p:nvPr/>
        </p:nvSpPr>
        <p:spPr>
          <a:xfrm>
            <a:off x="312840" y="4800600"/>
            <a:ext cx="8673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ањују се болови. Појава отока који је прекривен хиперемичном слузокожом и осетљив је на палпацију. Палпацијом се види феномен флуктуације</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55DF-B9F8-418E-84A2-5BE9B49CBCE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25520" y="122040"/>
            <a:ext cx="853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 дијагноза акутних дентогених инфекција</a:t>
            </a:r>
            <a:endParaRPr b="1" lang="en-US" sz="4000" spc="-1" strike="noStrike">
              <a:solidFill>
                <a:srgbClr val="000066"/>
              </a:solidFill>
              <a:latin typeface="Palatino Linotype"/>
            </a:endParaRPr>
          </a:p>
        </p:txBody>
      </p:sp>
      <p:sp>
        <p:nvSpPr>
          <p:cNvPr id="159" name="TextBox 8"/>
          <p:cNvSpPr/>
          <p:nvPr/>
        </p:nvSpPr>
        <p:spPr>
          <a:xfrm>
            <a:off x="444600" y="1563840"/>
            <a:ext cx="8170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утне дентогене инфекције се карактеришу изненадном појавом, са снажно израженим симптомима и брзим ток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ома често, међутим, акутна инфекција настаје егзарцебацијом хроничног проце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јагноза акутних дентогених инфекција заснива се на анамнези и клиничком прегледу, односно клиничкој слици карактеристичној за овај тип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окално присутни су знаци запаљења: </a:t>
            </a:r>
            <a:r>
              <a:rPr b="0" i="1" lang="en-US" sz="2000" spc="-1" strike="noStrike">
                <a:solidFill>
                  <a:srgbClr val="ff0000"/>
                </a:solidFill>
                <a:latin typeface="Palatino Linotype"/>
              </a:rPr>
              <a:t>rubor, tumor, calor, dolor et functio lae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Чест локални симптом који се јавља у клиничкој слици дентогених инфекција је </a:t>
            </a:r>
            <a:r>
              <a:rPr b="1" lang="sr-CS" sz="2000" spc="-1" strike="noStrike">
                <a:solidFill>
                  <a:srgbClr val="000000"/>
                </a:solidFill>
                <a:latin typeface="Palatino Linotype"/>
              </a:rPr>
              <a:t>тризмус</a:t>
            </a:r>
            <a:r>
              <a:rPr b="0" lang="sr-CS" sz="2000" spc="-1" strike="noStrike">
                <a:solidFill>
                  <a:srgbClr val="000000"/>
                </a:solidFill>
                <a:latin typeface="Palatino Linotype"/>
              </a:rPr>
              <a:t>.</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6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855D-36D5-4D5B-8750-E2505C06F20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 дијагноза акутних дентогених инфекција</a:t>
            </a:r>
            <a:endParaRPr b="1" lang="en-US" sz="4000" spc="-1" strike="noStrike">
              <a:solidFill>
                <a:srgbClr val="000066"/>
              </a:solidFill>
              <a:latin typeface="Palatino Linotype"/>
            </a:endParaRPr>
          </a:p>
        </p:txBody>
      </p:sp>
      <p:sp>
        <p:nvSpPr>
          <p:cNvPr id="164" name="TextBox 6"/>
          <p:cNvSpPr/>
          <p:nvPr/>
        </p:nvSpPr>
        <p:spPr>
          <a:xfrm>
            <a:off x="1166760" y="194940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8"/>
          <p:cNvSpPr/>
          <p:nvPr/>
        </p:nvSpPr>
        <p:spPr>
          <a:xfrm>
            <a:off x="469800" y="1528920"/>
            <a:ext cx="81327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јагноза дентогених инфекција подразумева првенствено откривање зуба-узрочника, који је увек присутан, односно ако се  из анамнезе утврди да је узрочник недавно естрахиран, присутна је екстракциона ра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утне дентогене инфекције су праћене и општим симптомима, као што су повишена телесна температура, дрхтавица, бледило коже, знаци дехидрадације (сувоћа видљиве слузокоже ), убрзано и неправилно дисање и промене у крви ( леукоцитоза, повишена седиментација, поремећај електроли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раженост општих симптома представља показатељ општег стања одбране организма и указује на потребу примене системских мера лечења.</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6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71EA-EDB5-4B24-898F-541FDF6C9A7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70" name="TextBox 7"/>
          <p:cNvSpPr/>
          <p:nvPr/>
        </p:nvSpPr>
        <p:spPr>
          <a:xfrm>
            <a:off x="444600" y="1539720"/>
            <a:ext cx="81453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чешће захваћени површни простори: сублингвални, субмандибуларни, субментални, букални, масетерични и простор очњачке јам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убоки простори: птеригомандибуларни и парафарингеал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СУБЛИНГВАЛ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ограничен са горње стране слузокожом пода уста, медијално гениоглосним и гениохиоидним мишићем, а споља унутрашњом страном доње вилице. Доња граница је милохиоидни мишић.</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зади, овај простор комуницира са субмандибуларним простором. ( сублингвална пљувачна жлезда, језични нерв и изводни канал субмандибуларне пљувачне жлезде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087F-47DA-472D-A585-5E47F62C874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65" name="TextBox 6"/>
          <p:cNvSpPr/>
          <p:nvPr/>
        </p:nvSpPr>
        <p:spPr>
          <a:xfrm>
            <a:off x="480960" y="1805040"/>
            <a:ext cx="81345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јам инфекције подразумева успешан продор и размножавање микроорганизама у организму домаћина, при чему настају оштећена његових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е које воде порекло од обољења зуба називају се дентогеним или одонтогеним инфекција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брамбена реакција организма  на инвазију микроорганизама манифестује се као запаљење (</a:t>
            </a:r>
            <a:r>
              <a:rPr b="0" i="1" lang="en-US" sz="2000" spc="-1" strike="noStrike">
                <a:solidFill>
                  <a:srgbClr val="000000"/>
                </a:solidFill>
                <a:latin typeface="Palatino Linotype"/>
              </a:rPr>
              <a:t>inflamatio)</a:t>
            </a:r>
            <a:r>
              <a:rPr b="0" lang="en-U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Latn-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91A7-684E-4682-B19D-90C3A9EFF44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25520" y="122040"/>
            <a:ext cx="871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75" name="TextBox 7"/>
          <p:cNvSpPr/>
          <p:nvPr/>
        </p:nvSpPr>
        <p:spPr>
          <a:xfrm>
            <a:off x="457200" y="1865160"/>
            <a:ext cx="8253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а овог простора је чешће неодонтогене природе, после повреде слузокоже пода у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сутни су оток и црвенило слузокоже пода уста са једне стране, због чега је језик потиснут на здраву страну и навиш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сутни су и општи знаци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ференцијална дијагноза треба да искључи цисте пода уста и туморе пода уст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је пре свега хируршко, уз антибиотску и симптоматску терапију.</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3"/>
          <p:cNvSpPr/>
          <p:nvPr/>
        </p:nvSpPr>
        <p:spPr>
          <a:xfrm>
            <a:off x="0" y="6399360"/>
            <a:ext cx="451656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900B-D6B3-4F55-BD67-ED588D15F3F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80" name="TextBox 7"/>
          <p:cNvSpPr/>
          <p:nvPr/>
        </p:nvSpPr>
        <p:spPr>
          <a:xfrm>
            <a:off x="420840" y="1371600"/>
            <a:ext cx="81946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СУБМАНДИБУЛАР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налази са унутрашње стране доње ивице тела мандибуле и испод ње. Унутрашњу границу чини хиоглосни мишић, предњу границу предњи трбух дигастрикуса, а задњу границу задњи трбух дигастрикуса и фасција великих крвних судова врата. Споља простор је ограничен платизмом и кожом, док га милохиоидни мишић одваја од сублингвалног простора. Садржај овог простора је истоимена пљувачна жлезда и лимфни чворови.</a:t>
            </a:r>
            <a:endParaRPr b="0" lang="en-US" sz="2000" spc="-1" strike="noStrike">
              <a:solidFill>
                <a:srgbClr val="000000"/>
              </a:solidFill>
              <a:latin typeface="Arial"/>
            </a:endParaRPr>
          </a:p>
        </p:txBody>
      </p:sp>
      <p:pic>
        <p:nvPicPr>
          <p:cNvPr id="181" name="Picture 8" descr="C:\Users\Zoran\Downloads\oralna hirurgija\slike\Submandibular_Space.JPG"/>
          <p:cNvPicPr/>
          <p:nvPr/>
        </p:nvPicPr>
        <p:blipFill>
          <a:blip r:embed="rId1"/>
          <a:srcRect l="2437" t="2633" r="2829" b="22301"/>
          <a:stretch/>
        </p:blipFill>
        <p:spPr>
          <a:xfrm>
            <a:off x="2687760" y="4233960"/>
            <a:ext cx="3133440" cy="2166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0" y="6424560"/>
            <a:ext cx="3879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8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8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2996-1E90-4495-83DE-ED7143764A3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86" name="TextBox 6"/>
          <p:cNvSpPr/>
          <p:nvPr/>
        </p:nvSpPr>
        <p:spPr>
          <a:xfrm>
            <a:off x="469800" y="1395360"/>
            <a:ext cx="8180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ом сликом доминирају екстраорално видљив субмандибуларни оток и тризмус. Кожа над отоком је црвена , топла и затегнута. Палпаторно оток је веома осетљив.</a:t>
            </a:r>
            <a:endParaRPr b="0" lang="en-US" sz="2000" spc="-1" strike="noStrike">
              <a:solidFill>
                <a:srgbClr val="000000"/>
              </a:solidFill>
              <a:latin typeface="Arial"/>
            </a:endParaRPr>
          </a:p>
        </p:txBody>
      </p:sp>
      <p:pic>
        <p:nvPicPr>
          <p:cNvPr id="187" name="Picture 7" descr="C:\Users\Zoran\Downloads\oralna hirurgija\slike\download (16).jpg"/>
          <p:cNvPicPr/>
          <p:nvPr/>
        </p:nvPicPr>
        <p:blipFill>
          <a:blip r:embed="rId1"/>
          <a:stretch/>
        </p:blipFill>
        <p:spPr>
          <a:xfrm>
            <a:off x="2781360" y="2413080"/>
            <a:ext cx="3408480" cy="2268360"/>
          </a:xfrm>
          <a:prstGeom prst="rect">
            <a:avLst/>
          </a:prstGeom>
          <a:ln w="0">
            <a:noFill/>
          </a:ln>
        </p:spPr>
      </p:pic>
      <p:sp>
        <p:nvSpPr>
          <p:cNvPr id="188" name="TextBox 9"/>
          <p:cNvSpPr/>
          <p:nvPr/>
        </p:nvSpPr>
        <p:spPr>
          <a:xfrm>
            <a:off x="276120" y="4824360"/>
            <a:ext cx="8807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подразумева што ранију екстракцију узрочника, инцизију апсцеса и опште мере лечења. Правац инцизије прати доњу ивицу мандибуле на растојању од 1ц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иференцијално дијагностички искључити инфекцију пљувачне жлезде.</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0" y="6424560"/>
            <a:ext cx="3865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D6AD-978F-4CBF-8D03-AF9CCCC0857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93" name="TextBox 6"/>
          <p:cNvSpPr/>
          <p:nvPr/>
        </p:nvSpPr>
        <p:spPr>
          <a:xfrm>
            <a:off x="480960" y="1746360"/>
            <a:ext cx="81694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СУБМЕНТАЛ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ештен је између унутрашње стране симфизног дела мандибуле напред и хиоидне кости, позади. Горњу границу представља милохиоидни мишић, док је на доле ограничен површном фасцијом врата, платизмом и кож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адржај простора је дигастрични мишић и субментални лимфни чворов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је доминантан и карактеристичан симптом инфекције овог простора. Локализован је испод доње ивице браде, преко које не прелази, тако да болесник изгледа као да има дуплу брад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траорално нема знакова инфекције.</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F61E-FCA8-42EB-9AAC-CC60BECF485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331920" y="182160"/>
            <a:ext cx="8812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198" name="TextBox 6"/>
          <p:cNvSpPr/>
          <p:nvPr/>
        </p:nvSpPr>
        <p:spPr>
          <a:xfrm>
            <a:off x="289080" y="1757520"/>
            <a:ext cx="83134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ОБРАЗНИ ИЛИ БУКАЛ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парни, површински простор лица. Налази се између образног мишића и његове фасције, који заједно чине његов унутрашњи зи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пољашни зид овог простора гради кожа образ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дња граница одговара поткожним мишићима (</a:t>
            </a:r>
            <a:r>
              <a:rPr b="0" lang="en-US" sz="2000" spc="-1" strike="noStrike">
                <a:solidFill>
                  <a:srgbClr val="000000"/>
                </a:solidFill>
                <a:latin typeface="Palatino Linotype"/>
              </a:rPr>
              <a:t> </a:t>
            </a:r>
            <a:r>
              <a:rPr b="0" i="1" lang="en-US" sz="2000" spc="-1" strike="noStrike">
                <a:solidFill>
                  <a:srgbClr val="000000"/>
                </a:solidFill>
                <a:latin typeface="Palatino Linotype"/>
              </a:rPr>
              <a:t>m. zygomaticus major et m. depresor anguli oris </a:t>
            </a:r>
            <a:r>
              <a:rPr b="0" lang="en-US" sz="2000" spc="-1" strike="noStrike">
                <a:solidFill>
                  <a:srgbClr val="000000"/>
                </a:solidFill>
                <a:latin typeface="Palatino Linotype"/>
              </a:rPr>
              <a:t>) </a:t>
            </a:r>
            <a:r>
              <a:rPr b="0" lang="sr-CS" sz="2000" spc="-1" strike="noStrike">
                <a:solidFill>
                  <a:srgbClr val="000000"/>
                </a:solidFill>
                <a:latin typeface="Palatino Linotype"/>
              </a:rPr>
              <a:t>који се једним крајем припајају у области комисуре уса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дња граница одговара припоју образног мишића на </a:t>
            </a:r>
            <a:r>
              <a:rPr b="0" i="1" lang="en-US" sz="2000" spc="-1" strike="noStrike">
                <a:solidFill>
                  <a:srgbClr val="000000"/>
                </a:solidFill>
                <a:latin typeface="Palatino Linotype"/>
              </a:rPr>
              <a:t>raphe pterygomandibulari</a:t>
            </a:r>
            <a:r>
              <a:rPr b="0" lang="en-US" sz="2000" spc="-1" strike="noStrike">
                <a:solidFill>
                  <a:srgbClr val="000000"/>
                </a:solidFill>
                <a:latin typeface="Palatino Linotype"/>
              </a:rPr>
              <a:t>s.</a:t>
            </a:r>
            <a:r>
              <a:rPr b="0" lang="sr-CS" sz="2000" spc="-1" strike="noStrike">
                <a:solidFill>
                  <a:srgbClr val="000000"/>
                </a:solidFill>
                <a:latin typeface="Palatino Linotype"/>
              </a:rPr>
              <a:t> Горња граница одговара зигоматичном луку, а доња граница доњој ивици тела мандибуле.</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0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36AB-18A0-458D-9F1B-6D3AEC276AA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pic>
        <p:nvPicPr>
          <p:cNvPr id="203" name="Picture 10" descr="C:\Users\Zoran\Downloads\oralna hirurgija\slike\download (19).jpg"/>
          <p:cNvPicPr/>
          <p:nvPr/>
        </p:nvPicPr>
        <p:blipFill>
          <a:blip r:embed="rId1"/>
          <a:srcRect l="2168" t="2206" r="53258" b="5618"/>
          <a:stretch/>
        </p:blipFill>
        <p:spPr>
          <a:xfrm>
            <a:off x="7122960" y="1324080"/>
            <a:ext cx="1868760" cy="2627280"/>
          </a:xfrm>
          <a:prstGeom prst="rect">
            <a:avLst/>
          </a:prstGeom>
          <a:ln w="0">
            <a:noFill/>
          </a:ln>
        </p:spPr>
      </p:pic>
      <p:sp>
        <p:nvSpPr>
          <p:cNvPr id="204" name="TextBox 10"/>
          <p:cNvSpPr/>
          <p:nvPr/>
        </p:nvSpPr>
        <p:spPr>
          <a:xfrm>
            <a:off x="433440" y="1816200"/>
            <a:ext cx="6905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Букални простор садржи: масно јастуче, изводни кана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аротидне пљувачне жлезде, артерија и вена лица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разне гране фацијалног жив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ом сликом доминира велики оток образа. Оток захвата средњу трећину лица од комисуре усана до задње ивице виличне гране. Нагоре оток се простире до доње ивице зигоматичног лука, не прелазећи га, а на доле до доње ивице мандибуле.</a:t>
            </a:r>
            <a:endParaRPr b="0" lang="en-US" sz="2000" spc="-1" strike="noStrike">
              <a:solidFill>
                <a:srgbClr val="000000"/>
              </a:solidFill>
              <a:latin typeface="Arial"/>
            </a:endParaRPr>
          </a:p>
        </p:txBody>
      </p:sp>
      <p:sp>
        <p:nvSpPr>
          <p:cNvPr id="205" name="TextBox 12"/>
          <p:cNvSpPr/>
          <p:nvPr/>
        </p:nvSpPr>
        <p:spPr>
          <a:xfrm>
            <a:off x="412920" y="4788000"/>
            <a:ext cx="8086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ко почетне гране фацијалне вене, вене образа су у вези са офталмичким венама и кавернозним синусом, што представља могућ пут ширења инфекције у кавернозни синус и мождане омотаче.</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0" y="6424560"/>
            <a:ext cx="394812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A358-D568-47F6-8651-1D68B59354F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10" name="TextBox 8"/>
          <p:cNvSpPr/>
          <p:nvPr/>
        </p:nvSpPr>
        <p:spPr>
          <a:xfrm>
            <a:off x="457200" y="1468440"/>
            <a:ext cx="8169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МАСЕТЕРИЧ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налази у пределу између виличне гране доње вилице и меких делова који покривају њену спољашњу страну.</a:t>
            </a:r>
            <a:endParaRPr b="0" lang="en-US" sz="2000" spc="-1" strike="noStrike">
              <a:solidFill>
                <a:srgbClr val="000000"/>
              </a:solidFill>
              <a:latin typeface="Arial"/>
            </a:endParaRPr>
          </a:p>
        </p:txBody>
      </p:sp>
      <p:pic>
        <p:nvPicPr>
          <p:cNvPr id="211" name="Picture 9" descr="C:\Users\Zoran\Downloads\oralna hirurgija\slike\imagescvfff.jpg"/>
          <p:cNvPicPr/>
          <p:nvPr/>
        </p:nvPicPr>
        <p:blipFill>
          <a:blip r:embed="rId1"/>
          <a:srcRect l="3269" t="1875" r="4535" b="17921"/>
          <a:stretch/>
        </p:blipFill>
        <p:spPr>
          <a:xfrm>
            <a:off x="3021120" y="3106800"/>
            <a:ext cx="2846160" cy="3119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1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24C4-EA25-430C-99B8-006911344D5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16" name="TextBox 10"/>
          <p:cNvSpPr/>
          <p:nvPr/>
        </p:nvSpPr>
        <p:spPr>
          <a:xfrm>
            <a:off x="457200" y="1407960"/>
            <a:ext cx="8158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ок инфекције је брз, са најтежим стањем од трећег до седмог да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у овог простора карактерише пре свега јак тризмус, који у фази развијеног апсцеса потпуно онемогућава отварање у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може да буде локализован споља, унутра или обострано  у пределу угла гране доње вилиц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алпаторно оток је веома болан. За инцизију и дренажу овог простора могућа су оба приступа: споља и унутра.</a:t>
            </a:r>
            <a:endParaRPr b="0" lang="en-US" sz="2000" spc="-1" strike="noStrike">
              <a:solidFill>
                <a:srgbClr val="000000"/>
              </a:solidFill>
              <a:latin typeface="Arial"/>
            </a:endParaRPr>
          </a:p>
        </p:txBody>
      </p:sp>
      <p:pic>
        <p:nvPicPr>
          <p:cNvPr id="217" name="Picture 9" descr="C:\Users\Zoran\Downloads\oralna hirurgija\slike\download (18).jpg"/>
          <p:cNvPicPr/>
          <p:nvPr/>
        </p:nvPicPr>
        <p:blipFill>
          <a:blip r:embed="rId1"/>
          <a:srcRect l="0" t="19210" r="1646" b="11901"/>
          <a:stretch/>
        </p:blipFill>
        <p:spPr>
          <a:xfrm>
            <a:off x="3325680" y="4565520"/>
            <a:ext cx="2216160" cy="1797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0FB0-B833-4BF4-967C-D285BAA4163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22" name="TextBox 6"/>
          <p:cNvSpPr/>
          <p:nvPr/>
        </p:nvSpPr>
        <p:spPr>
          <a:xfrm>
            <a:off x="457200" y="1684440"/>
            <a:ext cx="8253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ОЧЊАЧКА ЈАМА </a:t>
            </a:r>
            <a:r>
              <a:rPr b="1" i="1" lang="sr-CS" sz="2000" spc="-1" strike="noStrike">
                <a:solidFill>
                  <a:srgbClr val="000000"/>
                </a:solidFill>
                <a:latin typeface="Palatino Linotype"/>
              </a:rPr>
              <a:t>( </a:t>
            </a:r>
            <a:r>
              <a:rPr b="1" i="1" lang="en-US" sz="2000" spc="-1" strike="noStrike">
                <a:solidFill>
                  <a:srgbClr val="000000"/>
                </a:solidFill>
                <a:latin typeface="Palatino Linotype"/>
              </a:rPr>
              <a:t>fossa canina</a:t>
            </a:r>
            <a:r>
              <a:rPr b="1" lang="en-US" sz="2000" spc="-1" strike="noStrike">
                <a:solidFill>
                  <a:srgbClr val="000000"/>
                </a:solidFill>
                <a:latin typeface="Palatino Linotype"/>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дставља парни, површни простор лица који се налази на предњој страни тела максиле у пределу очњачке јам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изградњи овог простора учествује мишић </a:t>
            </a:r>
            <a:r>
              <a:rPr b="0" i="1" lang="en-US" sz="2000" spc="-1" strike="noStrike">
                <a:solidFill>
                  <a:srgbClr val="000000"/>
                </a:solidFill>
                <a:latin typeface="Palatino Linotype"/>
              </a:rPr>
              <a:t>m. levator labii oris superior</a:t>
            </a:r>
            <a:r>
              <a:rPr b="0" i="1" lang="sr-CS" sz="2000" spc="-1" strike="noStrike">
                <a:solidFill>
                  <a:srgbClr val="000000"/>
                </a:solidFill>
                <a:latin typeface="Palatino Linotype"/>
              </a:rPr>
              <a:t>  </a:t>
            </a:r>
            <a:r>
              <a:rPr b="0" lang="sr-CS" sz="2000" spc="-1" strike="noStrike">
                <a:solidFill>
                  <a:srgbClr val="000000"/>
                </a:solidFill>
                <a:latin typeface="Palatino Linotype"/>
              </a:rPr>
              <a:t>који се припаја високо у очњачкој ј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endParaRPr b="0" lang="en-US" sz="2000" spc="-1" strike="noStrike">
              <a:solidFill>
                <a:srgbClr val="000000"/>
              </a:solidFill>
              <a:latin typeface="Arial"/>
            </a:endParaRPr>
          </a:p>
        </p:txBody>
      </p:sp>
      <p:pic>
        <p:nvPicPr>
          <p:cNvPr id="223" name="Picture 7" descr="C:\Users\Zoran\Downloads\oralna hirurgija\slike\images78.jpg"/>
          <p:cNvPicPr/>
          <p:nvPr/>
        </p:nvPicPr>
        <p:blipFill>
          <a:blip r:embed="rId1"/>
          <a:stretch/>
        </p:blipFill>
        <p:spPr>
          <a:xfrm>
            <a:off x="6102360" y="4125960"/>
            <a:ext cx="2671920" cy="1735200"/>
          </a:xfrm>
          <a:prstGeom prst="rect">
            <a:avLst/>
          </a:prstGeom>
          <a:ln w="0">
            <a:noFill/>
          </a:ln>
        </p:spPr>
      </p:pic>
      <p:sp>
        <p:nvSpPr>
          <p:cNvPr id="224" name="TextBox 8"/>
          <p:cNvSpPr/>
          <p:nvPr/>
        </p:nvSpPr>
        <p:spPr>
          <a:xfrm>
            <a:off x="493560" y="4078440"/>
            <a:ext cx="5594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поља је уочљив оток средње трећине лица, који се шири навише и достиже доњи очни капак. Кожа захваћеног дела лица има све карактеристике локалне инфлама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остаје назолабијална бразда.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0" y="6424560"/>
            <a:ext cx="3727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2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8DC1-D11B-48DE-8FDF-834471C5555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29" name="TextBox 6"/>
          <p:cNvSpPr/>
          <p:nvPr/>
        </p:nvSpPr>
        <p:spPr>
          <a:xfrm>
            <a:off x="457200" y="1781280"/>
            <a:ext cx="8253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ПТЕРИГОМАНДИБУЛАРНИ ПРОСТО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дубоки простор ли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лика је хоризонтално поставље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ростране призм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простору се налаз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њи алвеоларни нерв, језични нерв и до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лвеоларна артерија и ве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стичан знак инфекције ово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стора је одсуство отока, али је тризмус јако израже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пажа се оток на бочном зиду ждрела који помера увулу ка здравој страни. Изражена је болна осетљивост предње ивице рамуса на палпацију.</a:t>
            </a:r>
            <a:endParaRPr b="0" lang="en-US" sz="2000" spc="-1" strike="noStrike">
              <a:solidFill>
                <a:srgbClr val="000000"/>
              </a:solidFill>
              <a:latin typeface="Arial"/>
            </a:endParaRPr>
          </a:p>
        </p:txBody>
      </p:sp>
      <p:pic>
        <p:nvPicPr>
          <p:cNvPr id="230" name="Picture 7" descr="C:\Users\Zoran\Downloads\oralna hirurgija\slike\imagescvfff.jpg"/>
          <p:cNvPicPr/>
          <p:nvPr/>
        </p:nvPicPr>
        <p:blipFill>
          <a:blip r:embed="rId1"/>
          <a:srcRect l="2627" t="2385" r="5159" b="17921"/>
          <a:stretch/>
        </p:blipFill>
        <p:spPr>
          <a:xfrm>
            <a:off x="5948280" y="1916280"/>
            <a:ext cx="2678040" cy="291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67" name="Date Placeholder 3"/>
          <p:cNvSpPr/>
          <p:nvPr/>
        </p:nvSpPr>
        <p:spPr>
          <a:xfrm>
            <a:off x="0" y="6424560"/>
            <a:ext cx="3795840" cy="26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99E4-3E55-4C1A-9D10-7B830F8920E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0" name="TextBox 6"/>
          <p:cNvSpPr/>
          <p:nvPr/>
        </p:nvSpPr>
        <p:spPr>
          <a:xfrm>
            <a:off x="457200" y="1889280"/>
            <a:ext cx="8265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паљење представља комплекс промена у ткиву и систему његових крвних судова изазвано неким агенс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 овај тип инфекције карактеристична је ексудативна форма запаљења, која се карактерише поремећајем циркула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a:t>
            </a:r>
            <a:r>
              <a:rPr b="1" lang="sr-CS" sz="2000" spc="-1" strike="noStrike">
                <a:solidFill>
                  <a:srgbClr val="000000"/>
                </a:solidFill>
                <a:latin typeface="Palatino Linotype"/>
              </a:rPr>
              <a:t>трансудација</a:t>
            </a:r>
            <a:r>
              <a:rPr b="0" lang="sr-CS" sz="2000" spc="-1" strike="noStrike">
                <a:solidFill>
                  <a:srgbClr val="000000"/>
                </a:solidFill>
                <a:latin typeface="Palatino Linotype"/>
              </a:rPr>
              <a:t> – изливање течности и уобличених елемената из крвног суда), оштећење ткива (</a:t>
            </a:r>
            <a:r>
              <a:rPr b="1" lang="sr-CS" sz="2000" spc="-1" strike="noStrike">
                <a:solidFill>
                  <a:srgbClr val="000000"/>
                </a:solidFill>
                <a:latin typeface="Palatino Linotype"/>
              </a:rPr>
              <a:t>алтерација</a:t>
            </a:r>
            <a:r>
              <a:rPr b="0" lang="sr-CS" sz="2000" spc="-1" strike="noStrike">
                <a:solidFill>
                  <a:srgbClr val="000000"/>
                </a:solidFill>
                <a:latin typeface="Palatino Linotype"/>
              </a:rPr>
              <a:t> – дегенерација и некроза ткива ) и </a:t>
            </a:r>
            <a:r>
              <a:rPr b="1" lang="sr-CS" sz="2000" spc="-1" strike="noStrike">
                <a:solidFill>
                  <a:srgbClr val="000000"/>
                </a:solidFill>
                <a:latin typeface="Palatino Linotype"/>
              </a:rPr>
              <a:t>пролиферација</a:t>
            </a:r>
            <a:r>
              <a:rPr b="0" lang="sr-CS" sz="2000" spc="-1" strike="noStrike">
                <a:solidFill>
                  <a:srgbClr val="000000"/>
                </a:solidFill>
                <a:latin typeface="Palatino Linotype"/>
              </a:rPr>
              <a:t> – умножавање тки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3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EF19-AE1D-44A3-8234-EC7490F872D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35" name="TextBox 7"/>
          <p:cNvSpPr/>
          <p:nvPr/>
        </p:nvSpPr>
        <p:spPr>
          <a:xfrm>
            <a:off x="457200" y="1660680"/>
            <a:ext cx="8326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јтежи облик одонтогених инфекција представљ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Флегмона пода уста – </a:t>
            </a:r>
            <a:r>
              <a:rPr b="1" lang="en-US" sz="2000" spc="-1" strike="noStrike">
                <a:solidFill>
                  <a:srgbClr val="000000"/>
                </a:solidFill>
                <a:latin typeface="Palatino Linotype"/>
              </a:rPr>
              <a:t>Angina Ludowic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Picture 7" descr="C:\Users\Zoran\Downloads\oralna hirurgija\slike\B11_07_334beb59cf.jpg"/>
          <p:cNvPicPr/>
          <p:nvPr/>
        </p:nvPicPr>
        <p:blipFill>
          <a:blip r:embed="rId1"/>
          <a:srcRect l="3104" t="12808" r="0" b="0"/>
          <a:stretch/>
        </p:blipFill>
        <p:spPr>
          <a:xfrm>
            <a:off x="1335240" y="2514600"/>
            <a:ext cx="6426000" cy="3780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3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D9A2-A289-4FEE-B37E-3E5DD2DAC97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линичка слика инфекција појединих простора</a:t>
            </a:r>
            <a:endParaRPr b="1" lang="en-US" sz="4000" spc="-1" strike="noStrike">
              <a:solidFill>
                <a:srgbClr val="000066"/>
              </a:solidFill>
              <a:latin typeface="Palatino Linotype"/>
            </a:endParaRPr>
          </a:p>
        </p:txBody>
      </p:sp>
      <p:sp>
        <p:nvSpPr>
          <p:cNvPr id="241" name="TextBox 6"/>
          <p:cNvSpPr/>
          <p:nvPr/>
        </p:nvSpPr>
        <p:spPr>
          <a:xfrm>
            <a:off x="493560" y="1787400"/>
            <a:ext cx="8253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овог стања пре свега подразумева </a:t>
            </a:r>
            <a:r>
              <a:rPr b="0" lang="sr-CS" sz="2000" spc="-1" strike="noStrike" u="sng">
                <a:solidFill>
                  <a:srgbClr val="000000"/>
                </a:solidFill>
                <a:uFillTx/>
                <a:latin typeface="Palatino Linotype"/>
              </a:rPr>
              <a:t>хоспитализацију пацијента</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нтибиотску терапију 3.200000-4.000000 И</a:t>
            </a:r>
            <a:r>
              <a:rPr b="0" lang="en-US" sz="2000" spc="-1" strike="noStrike">
                <a:solidFill>
                  <a:srgbClr val="000000"/>
                </a:solidFill>
                <a:latin typeface="Palatino Linotype"/>
              </a:rPr>
              <a:t>.</a:t>
            </a:r>
            <a:r>
              <a:rPr b="0" lang="sr-CS" sz="2000" spc="-1" strike="noStrike">
                <a:solidFill>
                  <a:srgbClr val="000000"/>
                </a:solidFill>
                <a:latin typeface="Palatino Linotype"/>
              </a:rPr>
              <a:t>Ј </a:t>
            </a:r>
            <a:r>
              <a:rPr b="0" lang="en-U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ва пута у току да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упституциону терапију (Хартманов раствор, Рингеров раствор, раствор глукоз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ируршке мере лечења подразумевају екстраоралне ицизије у облику слова </a:t>
            </a:r>
            <a:r>
              <a:rPr b="0" lang="en-US" sz="2000" spc="-1" strike="noStrike">
                <a:solidFill>
                  <a:srgbClr val="000000"/>
                </a:solidFill>
                <a:latin typeface="Palatino Linotype"/>
              </a:rPr>
              <a:t>Y</a:t>
            </a:r>
            <a:r>
              <a:rPr b="0" lang="sr-CS" sz="2000" spc="-1" strike="noStrike">
                <a:solidFill>
                  <a:srgbClr val="000000"/>
                </a:solidFill>
                <a:latin typeface="Palatino Linotype"/>
              </a:rPr>
              <a:t>. Може се учинити и више мањих инциз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творе се стављају гумени дренови ради дренаж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ко је узрок инфекције зуб треба га што пре извади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0" y="6424560"/>
            <a:ext cx="3795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4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4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B271-0C76-49D8-A426-9F30BE0E3A0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25160" y="12204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46" name="TextBox 8"/>
          <p:cNvSpPr/>
          <p:nvPr/>
        </p:nvSpPr>
        <p:spPr>
          <a:xfrm>
            <a:off x="438120" y="1616040"/>
            <a:ext cx="8242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Box 7"/>
          <p:cNvSpPr/>
          <p:nvPr/>
        </p:nvSpPr>
        <p:spPr>
          <a:xfrm>
            <a:off x="457200" y="1708200"/>
            <a:ext cx="82296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диференцијалној дијагнози треба разграничит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апаљења друге етиологије: лимфаденитис, посттрауматску инфекцију, фоликулитис, инфламирани атером, неодонтогено запаљење синуса, сијалоаденитис, сијалолитијаза зати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едеме, емфизем, хематом, развојне цисте врата, ретенционе цисте пљувачних жлезда, бенигни и малигни тумори ових регија. </a:t>
            </a:r>
            <a:endParaRPr b="0" lang="en-US" sz="2000" spc="-1" strike="noStrike">
              <a:solidFill>
                <a:srgbClr val="000000"/>
              </a:solidFill>
              <a:latin typeface="Arial"/>
            </a:endParaRPr>
          </a:p>
        </p:txBody>
      </p:sp>
      <p:pic>
        <p:nvPicPr>
          <p:cNvPr id="248" name="Picture 8" descr="C:\Users\Zoran\Pictures\imagesCAIEC2EF.jpg"/>
          <p:cNvPicPr/>
          <p:nvPr/>
        </p:nvPicPr>
        <p:blipFill>
          <a:blip r:embed="rId1"/>
          <a:stretch/>
        </p:blipFill>
        <p:spPr>
          <a:xfrm>
            <a:off x="3182760" y="3751200"/>
            <a:ext cx="2590920" cy="2556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0" y="6424560"/>
            <a:ext cx="3782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5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180F-875F-480C-B114-B67F4D31364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425160" y="122040"/>
            <a:ext cx="8466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53" name="TextBox 6"/>
          <p:cNvSpPr/>
          <p:nvPr/>
        </p:nvSpPr>
        <p:spPr>
          <a:xfrm>
            <a:off x="420840" y="1671480"/>
            <a:ext cx="8289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ЗАПАЉЕЊА ДРУГЕ ЕТИОЛОГ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мају све локалне и опште знаке карактеристичне за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оваквим случајевима основно је утврдити да ли постоји зуб узрочни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ре лечења су истоветне и код инфекција друге етиологије, осим што нема потребе вадити или лечити зу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u="sng">
                <a:solidFill>
                  <a:srgbClr val="000000"/>
                </a:solidFill>
                <a:uFillTx/>
                <a:latin typeface="Palatino Linotype"/>
              </a:rPr>
              <a:t>Лимфаден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може јавити и као примарно обољење, када диференцијално-дијагностички представља известан пробл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0" y="6424560"/>
            <a:ext cx="3879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5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DCE4-A706-457C-B1CA-52A134BC388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425160" y="12204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58" name="TextBox 7"/>
          <p:cNvSpPr/>
          <p:nvPr/>
        </p:nvSpPr>
        <p:spPr>
          <a:xfrm>
            <a:off x="488880" y="1728720"/>
            <a:ext cx="821700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7"/>
          <p:cNvSpPr/>
          <p:nvPr/>
        </p:nvSpPr>
        <p:spPr>
          <a:xfrm>
            <a:off x="469800" y="1647720"/>
            <a:ext cx="8145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ЕДЕ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у првенствено последица трауме или хируршког захвата, мада могу бити узроковани и алергијом или неким општим обољењи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ледица су поремећаја лимфне дренаже или трансудације течности и плазме из крвних судо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окално, постоји мекан оток, а боја коже је непромење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ретман подразумева примену хладних облога, а пролази и спонтано после 3-5 дана.</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0" y="6424560"/>
            <a:ext cx="3809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6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596F-C910-4D8C-96D0-0D0A6396CE3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63" name="PlaceHolder 1"/>
          <p:cNvSpPr>
            <a:spLocks noGrp="1"/>
          </p:cNvSpPr>
          <p:nvPr>
            <p:ph type="title"/>
          </p:nvPr>
        </p:nvSpPr>
        <p:spPr>
          <a:xfrm>
            <a:off x="425520" y="122040"/>
            <a:ext cx="871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64" name="TextBox 6"/>
          <p:cNvSpPr/>
          <p:nvPr/>
        </p:nvSpPr>
        <p:spPr>
          <a:xfrm>
            <a:off x="480960" y="1781280"/>
            <a:ext cx="813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ХЕМАТ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5" name="Picture 7" descr="C:\Users\Zoran\Downloads\oralna hirurgija\slike\imagesvcccvcvc.jpg"/>
          <p:cNvPicPr/>
          <p:nvPr/>
        </p:nvPicPr>
        <p:blipFill>
          <a:blip r:embed="rId1"/>
          <a:stretch/>
        </p:blipFill>
        <p:spPr>
          <a:xfrm>
            <a:off x="2598840" y="2495520"/>
            <a:ext cx="4109760" cy="3168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424560"/>
            <a:ext cx="3754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6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55EB-D2C5-4C32-AA7D-4FCB7C9F45C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425160" y="122040"/>
            <a:ext cx="851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70" name="TextBox 6"/>
          <p:cNvSpPr/>
          <p:nvPr/>
        </p:nvSpPr>
        <p:spPr>
          <a:xfrm>
            <a:off x="493560" y="1612800"/>
            <a:ext cx="81327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ЕМФИЗ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настао продором ваздуха у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аздух се може утиснути приликом фрактуре предњег зида максиларног синуса, затим јатрогено ако се канал корена зуба при ендодонтском третману испира под притиском раствором водоник-перокси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же настати и услед рада машином или употребе пусте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ток настаје веома брзо и може изгледати драматичн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д прстима се осећа крепитација ваздушних мехурића у ткив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ије потребно предузимати било какву терапију јер се оток повлачи спонтано након неколико дана.</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7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7B32-DF4F-4263-8617-2A66EDE04EB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425160" y="12204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Диференцијална дијагноза акутних дентогених инфекција</a:t>
            </a:r>
            <a:endParaRPr b="1" lang="en-US" sz="4000" spc="-1" strike="noStrike">
              <a:solidFill>
                <a:srgbClr val="000066"/>
              </a:solidFill>
              <a:latin typeface="Palatino Linotype"/>
            </a:endParaRPr>
          </a:p>
        </p:txBody>
      </p:sp>
      <p:sp>
        <p:nvSpPr>
          <p:cNvPr id="275" name="TextBox 6"/>
          <p:cNvSpPr/>
          <p:nvPr/>
        </p:nvSpPr>
        <p:spPr>
          <a:xfrm>
            <a:off x="458640" y="1744560"/>
            <a:ext cx="8182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ТУМОР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Аспирациона биопсија нема течности после аспирације</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лтразвучни преглед</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ТГ</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ЦТ</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МР</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умор маркер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Date Placeholder 3"/>
          <p:cNvSpPr/>
          <p:nvPr/>
        </p:nvSpPr>
        <p:spPr>
          <a:xfrm>
            <a:off x="0" y="6424560"/>
            <a:ext cx="3727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7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AF7D-6665-46C7-B924-3FDA090C6BD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80" name="TextBox 5"/>
          <p:cNvSpPr/>
          <p:nvPr/>
        </p:nvSpPr>
        <p:spPr>
          <a:xfrm>
            <a:off x="457200" y="1744560"/>
            <a:ext cx="8158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Лечење може бити : конзервативно</a:t>
            </a:r>
            <a:r>
              <a:rPr b="0" lang="en-US" sz="2000" spc="-1" strike="noStrike">
                <a:solidFill>
                  <a:srgbClr val="000000"/>
                </a:solidFill>
                <a:latin typeface="Palatino Linotype"/>
              </a:rPr>
              <a:t> </a:t>
            </a:r>
            <a:r>
              <a:rPr b="0" lang="sr-CS" sz="2000" spc="-1" strike="noStrike">
                <a:solidFill>
                  <a:srgbClr val="000000"/>
                </a:solidFill>
                <a:latin typeface="Palatino Linotype"/>
              </a:rPr>
              <a:t>(медикаментозно),</a:t>
            </a:r>
            <a:r>
              <a:rPr b="0" lang="en-US" sz="2000" spc="-1" strike="noStrike">
                <a:solidFill>
                  <a:srgbClr val="000000"/>
                </a:solidFill>
                <a:latin typeface="Palatino Linotype"/>
              </a:rPr>
              <a:t> </a:t>
            </a:r>
            <a:r>
              <a:rPr b="0" lang="sr-CS" sz="2000" spc="-1" strike="noStrike">
                <a:solidFill>
                  <a:srgbClr val="000000"/>
                </a:solidFill>
                <a:latin typeface="Palatino Linotype"/>
              </a:rPr>
              <a:t>хируршки и комбинован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u="sng">
                <a:solidFill>
                  <a:srgbClr val="000000"/>
                </a:solidFill>
                <a:uFillTx/>
                <a:latin typeface="Palatino Linotype"/>
              </a:rPr>
              <a:t>Конзервативно лечење акутних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ма за циљ сузбијање општих и локалних симптома инфекције и њену санацију уз евентуално очување зуба узрочн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сновна и најважнија терапијска мера је примена антибиотика, затим апликација аналгетика, антипиретика и супститационе терапије (надокнада течности, електролита, витамина као и храњивих материја).</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Date Placeholder 3"/>
          <p:cNvSpPr/>
          <p:nvPr/>
        </p:nvSpPr>
        <p:spPr>
          <a:xfrm>
            <a:off x="0" y="6424560"/>
            <a:ext cx="3865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8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F229-DB32-4173-9BE6-1A93A5FE66D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8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85" name="TextBox 6"/>
          <p:cNvSpPr/>
          <p:nvPr/>
        </p:nvSpPr>
        <p:spPr>
          <a:xfrm>
            <a:off x="444600" y="1731960"/>
            <a:ext cx="8218440" cy="35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лечењу инфекција антибиотицима треба се придржавати неких основних принципа њихове приме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избор лека се врши на основу микробиолошких налаза и антибиограм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лек се примењује у довољно високој дози и најефикаснијим путем уношењ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о престанку клиничких симптома лечење се наставља два до три дана, чиме се спречава појава рецидива</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72" name="Date Placeholder 3"/>
          <p:cNvSpPr/>
          <p:nvPr/>
        </p:nvSpPr>
        <p:spPr>
          <a:xfrm>
            <a:off x="0" y="6421320"/>
            <a:ext cx="390672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64D5-E289-4A36-9073-B2F5A83BD87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5" name="TextBox 7"/>
          <p:cNvSpPr/>
          <p:nvPr/>
        </p:nvSpPr>
        <p:spPr>
          <a:xfrm>
            <a:off x="399960" y="1352520"/>
            <a:ext cx="8145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 клиничкој слици и току, дентогене инфекције могу бити </a:t>
            </a:r>
            <a:r>
              <a:rPr b="1" lang="sr-CS" sz="2000" spc="-1" strike="noStrike">
                <a:solidFill>
                  <a:srgbClr val="ff0000"/>
                </a:solidFill>
                <a:latin typeface="Palatino Linotype"/>
              </a:rPr>
              <a:t>акутне</a:t>
            </a:r>
            <a:r>
              <a:rPr b="0" lang="sr-CS" sz="2000" spc="-1" strike="noStrike">
                <a:solidFill>
                  <a:srgbClr val="000000"/>
                </a:solidFill>
                <a:latin typeface="Palatino Linotype"/>
              </a:rPr>
              <a:t> и </a:t>
            </a:r>
            <a:r>
              <a:rPr b="1" lang="sr-CS" sz="2000" spc="-1" strike="noStrike">
                <a:solidFill>
                  <a:srgbClr val="ff0000"/>
                </a:solidFill>
                <a:latin typeface="Palatino Linotype"/>
              </a:rPr>
              <a:t>хроничне</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арактеристика акутних дентогених инфекција је да су, углавном, узроковане нормалном флором усне шупљи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Микроорганиз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ји су настањени на површини чврстих и меких ткива уста, када промене средину – доспеју у кост или мека ткива, постају патогени за нову средин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Флору дентогених инфекција чини асоцијација анаеробних и аеробних микроорганизама, са доминантном улогом анаеробних врста. ( </a:t>
            </a:r>
            <a:r>
              <a:rPr b="0" i="1" lang="en-US" sz="2000" spc="-1" strike="noStrike">
                <a:solidFill>
                  <a:srgbClr val="ff0000"/>
                </a:solidFill>
                <a:latin typeface="Palatino Linotype"/>
              </a:rPr>
              <a:t>Bacterioides, Fusobacterium</a:t>
            </a:r>
            <a:r>
              <a:rPr b="0" lang="sr-CS" sz="2000" spc="-1" strike="noStrike">
                <a:solidFill>
                  <a:srgbClr val="ff0000"/>
                </a:solidFill>
                <a:latin typeface="Palatino Linotype"/>
              </a:rPr>
              <a:t> </a:t>
            </a:r>
            <a:r>
              <a:rPr b="0" lang="en-US" sz="2000" spc="-1" strike="noStrike">
                <a:solidFill>
                  <a:srgbClr val="ff0000"/>
                </a:solidFill>
                <a:latin typeface="Palatino Linotype"/>
              </a:rPr>
              <a:t>, </a:t>
            </a:r>
            <a:r>
              <a:rPr b="0" i="1" lang="en-US" sz="2000" spc="-1" strike="noStrike">
                <a:solidFill>
                  <a:srgbClr val="ff0000"/>
                </a:solidFill>
                <a:latin typeface="Palatino Linotype"/>
              </a:rPr>
              <a:t>Peptococcus et Peptostreptococcus</a:t>
            </a:r>
            <a:r>
              <a:rPr b="0" i="1" lang="en-US" sz="2000" spc="-1" strike="noStrike">
                <a:solidFill>
                  <a:srgbClr val="000000"/>
                </a:solidFill>
                <a:latin typeface="Palatino Linotype"/>
              </a:rPr>
              <a:t>). </a:t>
            </a:r>
            <a:r>
              <a:rPr b="0" lang="sr-CS" sz="2000" spc="-1" strike="noStrike">
                <a:solidFill>
                  <a:srgbClr val="000000"/>
                </a:solidFill>
                <a:latin typeface="Palatino Linotype"/>
              </a:rPr>
              <a:t>Најчешћи аероби су </a:t>
            </a:r>
            <a:r>
              <a:rPr b="1" lang="sr-CS" sz="2000" spc="-1" strike="noStrike">
                <a:solidFill>
                  <a:srgbClr val="ff0000"/>
                </a:solidFill>
                <a:latin typeface="Palatino Linotype"/>
              </a:rPr>
              <a:t>стафилококуси и стрептококуси</a:t>
            </a:r>
            <a:r>
              <a:rPr b="0" lang="sr-CS" sz="2000" spc="-1" strike="noStrike">
                <a:solidFill>
                  <a:srgbClr val="ff0000"/>
                </a:solidFill>
                <a:latin typeface="Palatino Linotyp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8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B844-C3C7-44AE-8355-AA1DF7BDC87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90" name="TextBox 7"/>
          <p:cNvSpPr/>
          <p:nvPr/>
        </p:nvSpPr>
        <p:spPr>
          <a:xfrm>
            <a:off x="480960" y="1636560"/>
            <a:ext cx="81345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u="sng">
                <a:solidFill>
                  <a:srgbClr val="000000"/>
                </a:solidFill>
                <a:uFillTx/>
                <a:latin typeface="Palatino Linotype"/>
              </a:rPr>
              <a:t>Хируршко лечење акутних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ируршке мере лечења дентогених апсцеса су вађење зуба узрочника и инцизија са дренажом апсце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Palatino Linotype"/>
              </a:rPr>
              <a:t>Уколико се зуб не може сачувати, прва мера у лечењу инфекција је вађење зуба узрочн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лагање вађења зуба се врши када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је веома брз ток инфекције, поготову флегмонозног карактер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редпоставка да ће екстракција бити веома тешк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немогућност примене анестезије</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тризмус трећег степе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Date Placeholder 3"/>
          <p:cNvSpPr/>
          <p:nvPr/>
        </p:nvSpPr>
        <p:spPr>
          <a:xfrm>
            <a:off x="0" y="6389640"/>
            <a:ext cx="3865680" cy="46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9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E668-A995-4997-B902-4D3B52FD43E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sp>
        <p:nvSpPr>
          <p:cNvPr id="295" name="TextBox 6"/>
          <p:cNvSpPr/>
          <p:nvPr/>
        </p:nvSpPr>
        <p:spPr>
          <a:xfrm>
            <a:off x="444600" y="1442880"/>
            <a:ext cx="8157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ИНЦИЗ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пресецање ткива изнад апсцеса с</a:t>
            </a:r>
            <a:r>
              <a:rPr b="0" lang="en-US" sz="2000" spc="-1" strike="noStrike">
                <a:solidFill>
                  <a:srgbClr val="000000"/>
                </a:solidFill>
                <a:latin typeface="Palatino Linotype"/>
              </a:rPr>
              <a:t> </a:t>
            </a:r>
            <a:r>
              <a:rPr b="0" lang="sr-CS" sz="2000" spc="-1" strike="noStrike">
                <a:solidFill>
                  <a:srgbClr val="000000"/>
                </a:solidFill>
                <a:latin typeface="Palatino Linotype"/>
              </a:rPr>
              <a:t>циљем да се успостави дренажа гнојне кол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 инцизије, ткиво увек треба анестезирати локално, применом инфилтрационе анестез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дикација за инцизију увек постоји када оток флуктуира,  тако да се може извршити и истовремено са екстракцијом з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траоралне инцизије у форниксу се изводе паралелно са алвеоларним гребеном на месту најизраженије флуктуације (у доњој вилици) или на најнижем месту постојеће флуктуације (у горњој вилици). Изузетак у пределу доњих премолара.</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Date Placeholder 3"/>
          <p:cNvSpPr/>
          <p:nvPr/>
        </p:nvSpPr>
        <p:spPr>
          <a:xfrm>
            <a:off x="0" y="6424560"/>
            <a:ext cx="3782880" cy="26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9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DF9D-0B35-45FB-9CD7-36A6460CEB2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Лечење акутних дентогених инфекција</a:t>
            </a:r>
            <a:endParaRPr b="1" lang="en-US" sz="4000" spc="-1" strike="noStrike">
              <a:solidFill>
                <a:srgbClr val="000066"/>
              </a:solidFill>
              <a:latin typeface="Palatino Linotype"/>
            </a:endParaRPr>
          </a:p>
        </p:txBody>
      </p:sp>
      <p:pic>
        <p:nvPicPr>
          <p:cNvPr id="300" name="Picture 7" descr="C:\Users\Zoran\Downloads\oralna hirurgija\slike\rtrttrerr.jpg"/>
          <p:cNvPicPr/>
          <p:nvPr/>
        </p:nvPicPr>
        <p:blipFill>
          <a:blip r:embed="rId1"/>
          <a:stretch/>
        </p:blipFill>
        <p:spPr>
          <a:xfrm>
            <a:off x="2522520" y="1679400"/>
            <a:ext cx="4179960" cy="4427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Date Placeholder 3"/>
          <p:cNvSpPr/>
          <p:nvPr/>
        </p:nvSpPr>
        <p:spPr>
          <a:xfrm>
            <a:off x="0" y="6424560"/>
            <a:ext cx="37274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0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CA6B-BA26-4E36-81CE-8F00BB9040D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05" name="TextBox 7"/>
          <p:cNvSpPr/>
          <p:nvPr/>
        </p:nvSpPr>
        <p:spPr>
          <a:xfrm>
            <a:off x="480960" y="1623960"/>
            <a:ext cx="818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мпликације дентогених инфекција су углавном последица избегавања лечења, неадекватног лечења или касно почетог лече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Остеомијел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дифузно запаљење кости које захвата периост, кортекс и спонгиоз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же се јавити у акутној или хроничној форми, као гнојни или негнојни остеомијелити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0" y="6424560"/>
            <a:ext cx="38242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9443-5958-440E-B8C4-187A1BC2929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10" name="TextBox 6"/>
          <p:cNvSpPr/>
          <p:nvPr/>
        </p:nvSpPr>
        <p:spPr>
          <a:xfrm>
            <a:off x="420840" y="1419120"/>
            <a:ext cx="8550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Акутни остеомијел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може јавити као последица неадекватне терапије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 инфекција може доћи из апсцеса, после трауме или хематогеним путем. Узрочник инфекције су по правилу стафилокок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клиничкој слици доминирају бол, оток и општи знаци инфекције, висока температура, дехидратација и малаксалос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оминантан симптом је клаћење и болна осетљивост зуба узрочника на најмањи доди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ављају се фистуле на слузокожи и кожи. На рендген снимку промене су незнатне, и то у каснијој фази и манифестују се благим замућењем структуре коштаних гредица.</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Date Placeholder 3"/>
          <p:cNvSpPr/>
          <p:nvPr/>
        </p:nvSpPr>
        <p:spPr>
          <a:xfrm>
            <a:off x="0" y="6424560"/>
            <a:ext cx="3782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1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C9CE-B69F-4BD8-813D-40EE10BC164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1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15" name="TextBox 7"/>
          <p:cNvSpPr/>
          <p:nvPr/>
        </p:nvSpPr>
        <p:spPr>
          <a:xfrm>
            <a:off x="469800" y="1612800"/>
            <a:ext cx="8217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д остеомијелитиса доње вилице може да се јави утрнулост доње усне – </a:t>
            </a:r>
            <a:r>
              <a:rPr b="0" i="1" lang="en-US" sz="2000" spc="-1" strike="noStrike">
                <a:solidFill>
                  <a:srgbClr val="000000"/>
                </a:solidFill>
                <a:latin typeface="Palatino Linotype"/>
              </a:rPr>
              <a:t>Vincentov знак</a:t>
            </a:r>
            <a:r>
              <a:rPr b="0" lang="en-US" sz="2000" spc="-1" strike="noStrike">
                <a:solidFill>
                  <a:srgbClr val="000000"/>
                </a:solidFill>
                <a:latin typeface="Palatino Linotype"/>
              </a:rPr>
              <a:t>, </a:t>
            </a:r>
            <a:r>
              <a:rPr b="0" lang="sr-CS" sz="2000" spc="-1" strike="noStrike">
                <a:solidFill>
                  <a:srgbClr val="000000"/>
                </a:solidFill>
                <a:latin typeface="Palatino Linotype"/>
              </a:rPr>
              <a:t>услед притиска на доњи зубни нер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фекција је увек праћена локалним лимфаденитисом субмандибуларних и вратних чворо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лечењу треба предузети интезивну хируршко-медикаментну терап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уб узрочник треба извадити што пре. При том, околне расклаћене зубе треба сачувати и имобилиса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3"/>
          <p:cNvSpPr/>
          <p:nvPr/>
        </p:nvSpPr>
        <p:spPr>
          <a:xfrm>
            <a:off x="0" y="6424560"/>
            <a:ext cx="3795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1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2648-0973-4457-BC87-C600E40B9FF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20" name="TextBox 6"/>
          <p:cNvSpPr/>
          <p:nvPr/>
        </p:nvSpPr>
        <p:spPr>
          <a:xfrm>
            <a:off x="457200" y="1468440"/>
            <a:ext cx="8182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Локални хронични остеомијелит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отиче са дискретним симптомима у виду благих болова и нелагодно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линичка слика локалног остеомијелитиса након вађења зуба карактерише се успореним зарастањем ране, што је и најчешћи разлог доласка пацијен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екстракционе ране проминира ливидно гранулационо ткиво карфиоластог изгледа. По ивицама се таложи и на притисак цеди гнојни ексуд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ендгенски налаз је карактеристичан – на снимку се запажа секвестар, коштани фрагмент одвојен од остале кости зоном расветљења. Ивице секвестра су неправилне и назупчене.</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Date Placeholder 3"/>
          <p:cNvSpPr/>
          <p:nvPr/>
        </p:nvSpPr>
        <p:spPr>
          <a:xfrm>
            <a:off x="0" y="6424560"/>
            <a:ext cx="3782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2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BD1B-2B92-42DC-B28C-962A6D673C9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2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25" name="TextBox 7"/>
          <p:cNvSpPr/>
          <p:nvPr/>
        </p:nvSpPr>
        <p:spPr>
          <a:xfrm>
            <a:off x="493560" y="1708200"/>
            <a:ext cx="8096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рапија се састоји у примени антибиотика и хируршких ме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Хируршка терапија има предност, односно само уклањање секвестара (секвестротомија) и гранулационог ткива може довести до излечења.</a:t>
            </a:r>
            <a:endParaRPr b="0" lang="en-US" sz="2000" spc="-1" strike="noStrike">
              <a:solidFill>
                <a:srgbClr val="000000"/>
              </a:solidFill>
              <a:latin typeface="Arial"/>
            </a:endParaRPr>
          </a:p>
        </p:txBody>
      </p:sp>
      <p:pic>
        <p:nvPicPr>
          <p:cNvPr id="326" name="Picture 7" descr="C:\Users\Zoran\Downloads\oralna hirurgija\slike\bdj.2007.636-f2.jpg"/>
          <p:cNvPicPr/>
          <p:nvPr/>
        </p:nvPicPr>
        <p:blipFill>
          <a:blip r:embed="rId1"/>
          <a:stretch/>
        </p:blipFill>
        <p:spPr>
          <a:xfrm>
            <a:off x="2287440" y="3495600"/>
            <a:ext cx="4445280" cy="295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0" y="6424560"/>
            <a:ext cx="3795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2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23BB-7622-4781-A466-196C4F6F9A2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31" name="TextBox 6"/>
          <p:cNvSpPr/>
          <p:nvPr/>
        </p:nvSpPr>
        <p:spPr>
          <a:xfrm>
            <a:off x="433440" y="1442880"/>
            <a:ext cx="8109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000000"/>
                </a:solidFill>
                <a:latin typeface="Palatino Linotype"/>
              </a:rPr>
              <a:t>Хронични субкутани апсцес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 јављају или као компликација акутних дентогених апсцеса, или су од почетка хроничног то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Формирају се у поткожном ткиву, често на карактеристичним локацијама тзв. предилекционим местима као што су спојеви мишића и фас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поља је уочљив типичан налаз: оток љубичасте, тамноцрвене боје, кожа над отоком је смежурана, ретко када затегнута и сјајна, са израженим трофичним променама у виду десквама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Централни део је често неосетљив јер су некрозом захваћени и нервни завршец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33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EA66-B524-47CE-9784-75D4024AE92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дентогених инфекција</a:t>
            </a:r>
            <a:endParaRPr b="1" lang="en-US" sz="4000" spc="-1" strike="noStrike">
              <a:solidFill>
                <a:srgbClr val="000066"/>
              </a:solidFill>
              <a:latin typeface="Palatino Linotype"/>
            </a:endParaRPr>
          </a:p>
        </p:txBody>
      </p:sp>
      <p:sp>
        <p:nvSpPr>
          <p:cNvPr id="336" name="TextBox 6"/>
          <p:cNvSpPr/>
          <p:nvPr/>
        </p:nvSpPr>
        <p:spPr>
          <a:xfrm>
            <a:off x="457200" y="1720800"/>
            <a:ext cx="8169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рапија супкутаних апсцеса је искључиво хирурш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цизија и дренажа са киретажом некротичног ткива, уз обавезан третман зуба узрочника, најчешће његову екстрак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Palatino Linotype"/>
              </a:rPr>
              <a:t>Најтежа компликација дентогених инфекција представља ширење ових инфекција у медијастинум и ендокранијум, које могу завршити летално због генерализоване сепсе</a:t>
            </a:r>
            <a:r>
              <a:rPr b="0" lang="en-US" sz="2000" spc="-1" strike="noStrike">
                <a:solidFill>
                  <a:srgbClr val="ff0000"/>
                </a:solidFill>
                <a:latin typeface="Palatino Linotype"/>
              </a:rPr>
              <a:t>!</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4680" y="14580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77" name="Date Placeholder 3"/>
          <p:cNvSpPr/>
          <p:nvPr/>
        </p:nvSpPr>
        <p:spPr>
          <a:xfrm>
            <a:off x="0" y="6424560"/>
            <a:ext cx="4129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4CE2-6F2A-4F37-83F4-0738ACB3188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0" name="TextBox 7"/>
          <p:cNvSpPr/>
          <p:nvPr/>
        </p:nvSpPr>
        <p:spPr>
          <a:xfrm>
            <a:off x="480960" y="1731960"/>
            <a:ext cx="8134560" cy="379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Локализа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ентогене инфекције могу бити локализов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1" lang="sr-CS" sz="2000" spc="-1" strike="noStrike">
                <a:solidFill>
                  <a:srgbClr val="ff0000"/>
                </a:solidFill>
                <a:latin typeface="Palatino Linotype"/>
              </a:rPr>
              <a:t>Периапикално</a:t>
            </a:r>
            <a:r>
              <a:rPr b="0" lang="sr-CS" sz="2000" spc="-1" strike="noStrike">
                <a:solidFill>
                  <a:srgbClr val="000000"/>
                </a:solidFill>
                <a:latin typeface="Palatino Linotype"/>
              </a:rPr>
              <a:t> ( инфекцију изазивају авитални зуби са инфицираном или гангренозном пулп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Palatino Linotype"/>
              </a:rPr>
              <a:t>  </a:t>
            </a:r>
            <a:r>
              <a:rPr b="1" lang="sr-CS" sz="2000" spc="-1" strike="noStrike">
                <a:solidFill>
                  <a:srgbClr val="ff0000"/>
                </a:solidFill>
                <a:latin typeface="Palatino Linotype"/>
              </a:rPr>
              <a:t>Пародонтално</a:t>
            </a:r>
            <a:r>
              <a:rPr b="1" lang="sr-CS" sz="2000" spc="-1" strike="noStrike">
                <a:solidFill>
                  <a:srgbClr val="000000"/>
                </a:solidFill>
                <a:latin typeface="Palatino Linotype"/>
              </a:rPr>
              <a:t> </a:t>
            </a:r>
            <a:r>
              <a:rPr b="0" lang="sr-CS" sz="2000" spc="-1" strike="noStrike">
                <a:solidFill>
                  <a:srgbClr val="000000"/>
                </a:solidFill>
                <a:latin typeface="Palatino Linotype"/>
              </a:rPr>
              <a:t>( инфекција се јавља око зуба са дубоким пародонталним џеповима, као пародонтални апцес ).</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1" lang="sr-CS" sz="2000" spc="-1" strike="noStrike">
                <a:solidFill>
                  <a:srgbClr val="ff0000"/>
                </a:solidFill>
                <a:latin typeface="Palatino Linotype"/>
              </a:rPr>
              <a:t>Перикоронарно</a:t>
            </a:r>
            <a:r>
              <a:rPr b="1" lang="sr-CS" sz="2000" spc="-1" strike="noStrike">
                <a:solidFill>
                  <a:srgbClr val="000000"/>
                </a:solidFill>
                <a:latin typeface="Palatino Linotype"/>
              </a:rPr>
              <a:t> </a:t>
            </a:r>
            <a:r>
              <a:rPr b="0" lang="sr-CS" sz="2000" spc="-1" strike="noStrike">
                <a:solidFill>
                  <a:srgbClr val="000000"/>
                </a:solidFill>
                <a:latin typeface="Palatino Linotype"/>
              </a:rPr>
              <a:t>( инфекција настаје у перикоронарном простору делимично изниклих зуба – перикоронити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122040"/>
            <a:ext cx="8718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82" name="Date Placeholder 3"/>
          <p:cNvSpPr/>
          <p:nvPr/>
        </p:nvSpPr>
        <p:spPr>
          <a:xfrm>
            <a:off x="0" y="6424560"/>
            <a:ext cx="41148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8DB0-6A76-43F4-A50E-DA76CD0981A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5" name="TextBox 7"/>
          <p:cNvSpPr/>
          <p:nvPr/>
        </p:nvSpPr>
        <p:spPr>
          <a:xfrm>
            <a:off x="493560" y="1768320"/>
            <a:ext cx="80964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Ширење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д зуба узрочника инфекција се шири у околна ткива и удаљене предел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 ширење инфекције утичу бројни фактори, који су у вези с организмом домаћина, али и микроорганизми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ви фактор је </a:t>
            </a:r>
            <a:r>
              <a:rPr b="1" lang="sr-CS" sz="2000" spc="-1" strike="noStrike">
                <a:solidFill>
                  <a:srgbClr val="000000"/>
                </a:solidFill>
                <a:latin typeface="Palatino Linotype"/>
              </a:rPr>
              <a:t>одбрана организма</a:t>
            </a:r>
            <a:r>
              <a:rPr b="0" lang="sr-CS" sz="2000" spc="-1" strike="noStrike">
                <a:solidFill>
                  <a:srgbClr val="000000"/>
                </a:solidFill>
                <a:latin typeface="Palatino Linotyp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ђусобни однос микроорганизми – домаћин може да се поремети у току бројних обољења која изазивају  пад имунитета организ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вољни услови могу да се развију у ткиву и на локалном ниво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87"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7F6F-3ED5-4D15-AAF2-3C576F5A784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0" name="TextBox 6"/>
          <p:cNvSpPr/>
          <p:nvPr/>
        </p:nvSpPr>
        <p:spPr>
          <a:xfrm>
            <a:off x="457200" y="1731960"/>
            <a:ext cx="81932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руги фактор су </a:t>
            </a:r>
            <a:r>
              <a:rPr b="1" lang="sr-CS" sz="2000" spc="-1" strike="noStrike">
                <a:solidFill>
                  <a:srgbClr val="000000"/>
                </a:solidFill>
                <a:latin typeface="Palatino Linotype"/>
              </a:rPr>
              <a:t>микроорганизми</a:t>
            </a:r>
            <a:r>
              <a:rPr b="0" lang="sr-CS" sz="2000" spc="-1" strike="noStrike">
                <a:solidFill>
                  <a:srgbClr val="000000"/>
                </a:solidFill>
                <a:latin typeface="Palatino Linotype"/>
              </a:rPr>
              <a:t>, односно њихова бројност и врста, тј. вирулен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жина клиничке слике често је повезана с налазом одређених врста микроорганизама узрочни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тежим формама дентогених инфекција често су присутне грам-негативне анаеробне врст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4C9B-CC44-48F1-8192-8B883D8F2E3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95" name="TextBox 7"/>
          <p:cNvSpPr/>
          <p:nvPr/>
        </p:nvSpPr>
        <p:spPr>
          <a:xfrm>
            <a:off x="446040" y="1539720"/>
            <a:ext cx="8156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Четврти веома битан фактор ширења дентогених инфекција представљају локални </a:t>
            </a:r>
            <a:r>
              <a:rPr b="1" lang="sr-CS" sz="2000" spc="-1" strike="noStrike">
                <a:solidFill>
                  <a:srgbClr val="000000"/>
                </a:solidFill>
                <a:latin typeface="Palatino Linotype"/>
              </a:rPr>
              <a:t>анатомски фактори</a:t>
            </a:r>
            <a:r>
              <a:rPr b="0" lang="sr-CS" sz="2000" spc="-1" strike="noStrike">
                <a:solidFill>
                  <a:srgbClr val="000000"/>
                </a:solidFill>
                <a:latin typeface="Palatino Linotype"/>
              </a:rPr>
              <a:t> ( припоји мишића и фасција, крвни и лимфни судови, грађа и дебљина коштаних ламела, морфологија коренова з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Palatino Linotype"/>
              </a:rPr>
              <a:t>M</a:t>
            </a:r>
            <a:r>
              <a:rPr b="0" i="1" lang="sr-CS" sz="2000" spc="-1" strike="noStrike">
                <a:solidFill>
                  <a:srgbClr val="000000"/>
                </a:solidFill>
                <a:latin typeface="Palatino Linotype"/>
              </a:rPr>
              <a:t>ишићни припоји </a:t>
            </a:r>
            <a:r>
              <a:rPr b="0" lang="sr-CS" sz="2000" spc="-1" strike="noStrike">
                <a:solidFill>
                  <a:srgbClr val="000000"/>
                </a:solidFill>
                <a:latin typeface="Palatino Linotype"/>
              </a:rPr>
              <a:t>су од посебног клиничког значаја будући да локализација инфекције може да зависи од места продора запаљенског ексудата у односу на њихову инсерцију.</a:t>
            </a:r>
            <a:endParaRPr b="0" lang="en-US" sz="2000" spc="-1" strike="noStrike">
              <a:solidFill>
                <a:srgbClr val="000000"/>
              </a:solidFill>
              <a:latin typeface="Arial"/>
            </a:endParaRPr>
          </a:p>
        </p:txBody>
      </p:sp>
      <p:pic>
        <p:nvPicPr>
          <p:cNvPr id="96" name="Picture 7" descr="C:\Users\Zoran\Downloads\oralna hirurgija\slike\imagesrtr.jpg"/>
          <p:cNvPicPr/>
          <p:nvPr/>
        </p:nvPicPr>
        <p:blipFill>
          <a:blip r:embed="rId1"/>
          <a:srcRect l="0" t="17344" r="18263" b="25032"/>
          <a:stretch/>
        </p:blipFill>
        <p:spPr>
          <a:xfrm>
            <a:off x="485640" y="4199040"/>
            <a:ext cx="2225880" cy="2160360"/>
          </a:xfrm>
          <a:prstGeom prst="rect">
            <a:avLst/>
          </a:prstGeom>
          <a:ln w="0">
            <a:noFill/>
          </a:ln>
        </p:spPr>
      </p:pic>
      <p:pic>
        <p:nvPicPr>
          <p:cNvPr id="97" name="Picture 8" descr="C:\Users\Zoran\Downloads\oralna hirurgija\slike\12223.jpg"/>
          <p:cNvPicPr/>
          <p:nvPr/>
        </p:nvPicPr>
        <p:blipFill>
          <a:blip r:embed="rId2"/>
          <a:stretch/>
        </p:blipFill>
        <p:spPr>
          <a:xfrm>
            <a:off x="2716200" y="4168800"/>
            <a:ext cx="2219400" cy="2057400"/>
          </a:xfrm>
          <a:prstGeom prst="rect">
            <a:avLst/>
          </a:prstGeom>
          <a:ln w="0">
            <a:noFill/>
          </a:ln>
        </p:spPr>
      </p:pic>
      <p:pic>
        <p:nvPicPr>
          <p:cNvPr id="98" name="Picture 9" descr="C:\Users\Zoran\Downloads\oralna hirurgija\slike\imagesvg.jpg"/>
          <p:cNvPicPr/>
          <p:nvPr/>
        </p:nvPicPr>
        <p:blipFill>
          <a:blip r:embed="rId3"/>
          <a:stretch/>
        </p:blipFill>
        <p:spPr>
          <a:xfrm>
            <a:off x="6894360" y="4119480"/>
            <a:ext cx="1971720" cy="2324160"/>
          </a:xfrm>
          <a:prstGeom prst="rect">
            <a:avLst/>
          </a:prstGeom>
          <a:ln w="0">
            <a:noFill/>
          </a:ln>
        </p:spPr>
      </p:pic>
      <p:pic>
        <p:nvPicPr>
          <p:cNvPr id="99" name="Picture 10" descr="C:\Users\Zoran\Downloads\oralna hirurgija\slike\imagesggg.jpg"/>
          <p:cNvPicPr/>
          <p:nvPr/>
        </p:nvPicPr>
        <p:blipFill>
          <a:blip r:embed="rId4"/>
          <a:stretch/>
        </p:blipFill>
        <p:spPr>
          <a:xfrm>
            <a:off x="4807080" y="4243320"/>
            <a:ext cx="2152440" cy="2124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0" y="6424560"/>
            <a:ext cx="38368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0493-9029-46C5-9741-6A98DDEAFFB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јам дентогене инфекције</a:t>
            </a:r>
            <a:endParaRPr b="1" lang="en-US" sz="4000" spc="-1" strike="noStrike">
              <a:solidFill>
                <a:srgbClr val="000066"/>
              </a:solidFill>
              <a:latin typeface="Palatino Linotype"/>
            </a:endParaRPr>
          </a:p>
        </p:txBody>
      </p:sp>
      <p:sp>
        <p:nvSpPr>
          <p:cNvPr id="104" name="TextBox 6"/>
          <p:cNvSpPr/>
          <p:nvPr/>
        </p:nvSpPr>
        <p:spPr>
          <a:xfrm>
            <a:off x="469800" y="1828800"/>
            <a:ext cx="8132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Palatino Linotype"/>
              </a:rPr>
              <a:t>Грађа кости </a:t>
            </a:r>
            <a:r>
              <a:rPr b="0" lang="sr-CS" sz="2000" spc="-1" strike="noStrike">
                <a:solidFill>
                  <a:srgbClr val="000000"/>
                </a:solidFill>
                <a:latin typeface="Palatino Linotype"/>
              </a:rPr>
              <a:t>, правац и густина трабекуларне кости као и дебљина компактне кости, представљају значајан фактор у ширењу дентогених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Гнојна колекција се, по правилу ,шири путем најмањег отпора кроз кост. То опредељује место на коме ће перфорирати кортикалну ламелу виличне кости.</a:t>
            </a:r>
            <a:endParaRPr b="0" lang="en-US" sz="2000" spc="-1" strike="noStrike">
              <a:solidFill>
                <a:srgbClr val="000000"/>
              </a:solidFill>
              <a:latin typeface="Arial"/>
            </a:endParaRPr>
          </a:p>
        </p:txBody>
      </p:sp>
      <p:pic>
        <p:nvPicPr>
          <p:cNvPr id="105" name="Picture 7" descr="C:\Users\Zoran\Downloads\oralna hirurgija\slike\download (17).jpg"/>
          <p:cNvPicPr/>
          <p:nvPr/>
        </p:nvPicPr>
        <p:blipFill>
          <a:blip r:embed="rId1"/>
          <a:srcRect l="0" t="8346" r="131" b="0"/>
          <a:stretch/>
        </p:blipFill>
        <p:spPr>
          <a:xfrm>
            <a:off x="3068640" y="4054320"/>
            <a:ext cx="3019320" cy="2310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Каја</dc:creator>
  <dc:description/>
  <dc:language>en-US</dc:language>
  <cp:lastModifiedBy>Korisnik</cp:lastModifiedBy>
  <dcterms:modified xsi:type="dcterms:W3CDTF">2019-09-09T16:02:32Z</dcterms:modified>
  <cp:revision>1338</cp:revision>
  <dc:subject/>
  <dc:title>NAZIV PREDAVANJA</dc:title>
</cp:coreProperties>
</file>